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5BDD7-914F-442D-931B-1FA787E34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0614-0773-480F-9D66-74A59020B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13A6D-4445-4BE2-9CB5-6857632E00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1C3EF-4927-4138-9B27-7C659C6875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1747-C8BD-47C2-B216-56C512561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9DEC-BF91-47FF-9490-2537CDAC0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4FBCE-49E9-4B32-ADC8-F34BA0392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72BBE-8EAF-4B4E-9CF1-0FB3CF294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24E39-D186-4674-A363-90D9DD862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456D-8DE4-4FB1-8A27-8B336B753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9E5A-CBB6-4180-9C05-3FD32511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CFE02-0723-44BB-9CC2-D7FD3C64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7BCD9-EF1B-487D-A670-5095DFDF09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08E9-4A48-496B-A7C6-BEBCFA246E4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TIONAL WATER AND SEWERAGE CORPORATION  CORPORATE STRATEGY AND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ＭＳ Ｐゴシック"/>
              </a:rPr>
              <a:t>Presentation to MBA Participants- Uganda Management Instit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July 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98989"/>
                </a:solidFill>
                <a:latin typeface="Calibri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Calibri"/>
              </a:rPr>
              <a:t>By: Prof. Dr. William T. Muhairw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5"/>
          <p:cNvSpPr/>
          <p:nvPr/>
        </p:nvSpPr>
        <p:spPr>
          <a:xfrm>
            <a:off x="1219320" y="2666880"/>
            <a:ext cx="6629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1219320" y="5943600"/>
            <a:ext cx="6781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68AA0-388A-45A9-98B2-80E4592FD66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making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order to address day to day critical issues such as water scarcity, water losses, system break down, a bottom-up decision making approach is adopted which takes the following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perational Areas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dentify the issue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op Managemen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scusses and takes dec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hief Executiv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wards decision to the Boar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onal if Board  sanction i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Line Ministry 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onal, If the issue has policy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im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242A20-55E0-418E-8C26-8DCB5C8ED8E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ddressing the need for quick decision mak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perational Plans/short term tactical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00 Days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rvice and Revenue Enhancement Programmes- SER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ea Performance Contracts (AP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ternally Delegated Area Management Contracts (IDAM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etch-Out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e Minute Management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heckers” Programme to rationalise the M&amp; E 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FD94-CC55-477C-B2EB-E376C9D4DF1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mphasis in all Performance Improvement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iority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ustomer foc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am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llective participation in the development and formulation      of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 outs through the “stretch out programme” in which workers were fre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air out their  grievances and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onitoring and Evaluation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eckers un announced visits: both process and output ori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ppraisal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rong incentive systems and equitable gain sharing pl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ne minute management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formance Contracts for all sta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formance based 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nal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6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A93F5-D623-4821-90F1-E6CC066713F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11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WSC Key Achiev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43000" y="1600200"/>
          <a:ext cx="7010280" cy="4398840"/>
        </p:xfrm>
        <a:graphic>
          <a:graphicData uri="http://schemas.openxmlformats.org/drawingml/2006/table">
            <a:tbl>
              <a:tblPr/>
              <a:tblGrid>
                <a:gridCol w="3014640"/>
                <a:gridCol w="1947960"/>
                <a:gridCol w="2047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Co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Connections per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red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per 1000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rtion Metered Ac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 Turnover (Billion S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t (Before. Dep) (Billions S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 (l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 (Surpl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9CEE6-6BF6-4183-A6BE-2023A589930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5F2D5-F90A-4B92-AA9F-24B6D496860D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99036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rporate Strategy is important as a planning too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HGP明朝E"/>
              </a:rPr>
              <a:t>However, Regular meetings are paramount to track progress in resolving the long term issu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rporate strategy should be underlined by programmes and plans which facilitate quick decision mak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Strategic planning should  drive decisions if it is to have impact, other than focussing on individual business unit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HGP明朝E"/>
              </a:rPr>
              <a:t>It is important to introduce a strategic integration process focused on uncovering and addressing the business most important strategic issu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lways explore Opportunit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5" descr="C:\Documents and Settings\peter.twesigye\Desktop\Office Image 2.jpg"/>
          <p:cNvPicPr/>
          <p:nvPr/>
        </p:nvPicPr>
        <p:blipFill>
          <a:blip r:embed="rId1"/>
          <a:stretch/>
        </p:blipFill>
        <p:spPr>
          <a:xfrm>
            <a:off x="685800" y="2057400"/>
            <a:ext cx="556272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C74A0-A876-48A0-A943-36767C4C00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0"/>
          <p:cNvSpPr/>
          <p:nvPr/>
        </p:nvSpPr>
        <p:spPr>
          <a:xfrm>
            <a:off x="685800" y="617220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2"/>
          <p:cNvSpPr/>
          <p:nvPr/>
        </p:nvSpPr>
        <p:spPr>
          <a:xfrm>
            <a:off x="685800" y="16765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C:\Documents and Settings\peter.twesigye\Desktop\Image 8.jpg"/>
          <p:cNvPicPr/>
          <p:nvPr/>
        </p:nvPicPr>
        <p:blipFill>
          <a:blip r:embed="rId3"/>
          <a:stretch/>
        </p:blipFill>
        <p:spPr>
          <a:xfrm>
            <a:off x="6400800" y="2209680"/>
            <a:ext cx="1981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488BE-20CE-4337-A8E1-8650263C1A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14400" y="1752480"/>
            <a:ext cx="7315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990720" y="5638680"/>
            <a:ext cx="7315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1905120"/>
            <a:ext cx="83059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lways a difference one can create in terms of Shaping one’s future. You just need determination, commitment ,  courage and discip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, remember the saying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UST EITHER FIND A WAY OR MAKE 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IB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3284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EB478-A82F-4F9D-8A8C-81496897F850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hat is Corporate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523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HGP明朝E"/>
              </a:rPr>
              <a:t>Corporate Strategy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HGP明朝E"/>
              </a:rPr>
              <a:t>refers to the approach adopted  by management to guide  the future  of the organisation (scope and directio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B93EE-BAFB-4DAA-ACB2-0A9BEC87544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peter.twesigye\Desktop\Image 3.jpg"/>
          <p:cNvPicPr/>
          <p:nvPr/>
        </p:nvPicPr>
        <p:blipFill>
          <a:blip r:embed="rId1"/>
          <a:stretch/>
        </p:blipFill>
        <p:spPr>
          <a:xfrm>
            <a:off x="4572000" y="3317760"/>
            <a:ext cx="3809880" cy="239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33433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8"/>
          <p:cNvSpPr/>
          <p:nvPr/>
        </p:nvSpPr>
        <p:spPr>
          <a:xfrm>
            <a:off x="914400" y="1523880"/>
            <a:ext cx="6858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0"/>
          <p:cNvSpPr/>
          <p:nvPr/>
        </p:nvSpPr>
        <p:spPr>
          <a:xfrm>
            <a:off x="914400" y="5943600"/>
            <a:ext cx="7467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hat is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A cognitive process resulting in the selection of a course of action. The output can be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a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or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opinion of c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BD08-4698-4172-8F16-955BE5AAA5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3886200" cy="266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Documents and Settings\peter.twesigye\My Documents\Decision making 3.jpg"/>
          <p:cNvPicPr/>
          <p:nvPr/>
        </p:nvPicPr>
        <p:blipFill>
          <a:blip r:embed="rId2"/>
          <a:stretch/>
        </p:blipFill>
        <p:spPr>
          <a:xfrm>
            <a:off x="762120" y="3352680"/>
            <a:ext cx="3733560" cy="2667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Food for th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6197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are the first things you would do if you were appointed CEO of a  business company like, Warid Telecom, Tullow Oil, National Housing and Construction Corporation, or PS for Ministry of Water, Education, Public Service or even a clerk to Parliament, Head Master of Buddo, Director Mulago Hospi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0B81C-C99D-4169-AF3F-E41814CB8D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65" name="Straight Connector 6"/>
          <p:cNvSpPr/>
          <p:nvPr/>
        </p:nvSpPr>
        <p:spPr>
          <a:xfrm>
            <a:off x="1219320" y="1600200"/>
            <a:ext cx="655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990720" y="5562720"/>
            <a:ext cx="7086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 theory, Any Manager would do the following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Situation analysis/ SWO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Formulate a Vi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Formulate a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Design Strategic Plans and Goals (Long-term and Short-ter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porate Plans (3-5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nual Financial Budge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Formulate Operational Plans/Programmes  (short-term and long-ter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72C3-1CE9-4D22-BBF8-C8F17A060A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peter.twesigye\My Documents\Photo Clips\Image 4.jpg"/>
          <p:cNvPicPr/>
          <p:nvPr/>
        </p:nvPicPr>
        <p:blipFill>
          <a:blip r:embed="rId1"/>
          <a:stretch/>
        </p:blipFill>
        <p:spPr>
          <a:xfrm>
            <a:off x="5715000" y="1981080"/>
            <a:ext cx="259092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peter.twesigye\My Documents\Photo Clips\Image 11.jpg"/>
          <p:cNvPicPr/>
          <p:nvPr/>
        </p:nvPicPr>
        <p:blipFill>
          <a:blip r:embed="rId2"/>
          <a:stretch/>
        </p:blipFill>
        <p:spPr>
          <a:xfrm>
            <a:off x="6248520" y="3395520"/>
            <a:ext cx="205740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8"/>
          <p:cNvSpPr/>
          <p:nvPr/>
        </p:nvSpPr>
        <p:spPr>
          <a:xfrm>
            <a:off x="1066680" y="1828800"/>
            <a:ext cx="7086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1066680" y="5943600"/>
            <a:ext cx="7391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Transformation Process.</a:t>
            </a:r>
            <a:br>
              <a:rPr sz="2900"/>
            </a:b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NWSC Approach to SWOT Analy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WSC SWOT Analysis as at 19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engths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nd infrastructure, abundant plant production capacity enabling legislative framework, well trained workforce, sound billing system, good corporate planning strategy, good financial budget planning policy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aknesses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w staff productivity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36 staff/1000   connections),high UfW (60%), Low Collection Efficiency - 71%, huge arrears of about 14 months of billing, high number of unviable town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pportunities: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overnment support, relatively stable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economy,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onor support, abundant  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water resources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reats:   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Huge Debt and pending debt Servicing  obligations, VAT law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75AB-B447-46FD-A1B1-ED69B8F7AEB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6"/>
          <p:cNvSpPr/>
          <p:nvPr/>
        </p:nvSpPr>
        <p:spPr>
          <a:xfrm>
            <a:off x="1143000" y="1447920"/>
            <a:ext cx="655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>
            <a:off x="1219320" y="6019920"/>
            <a:ext cx="685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WSC VISION &amp; 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504d"/>
                </a:solidFill>
                <a:latin typeface="Calibri"/>
              </a:rPr>
              <a:t>Previous Vision: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o be the Pride of the Water Sector i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504d"/>
                </a:solidFill>
                <a:latin typeface="Calibri"/>
              </a:rPr>
              <a:t>Previous Mission:</a:t>
            </a:r>
            <a:r>
              <a:rPr b="1" lang="en-US" sz="2600" spc="-1" strike="noStrike">
                <a:solidFill>
                  <a:srgbClr val="c0504d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o be a Customer Oriented Organization, providing Excellent Water and Sewerage Services in a cost effective mann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 Narrow"/>
              </a:rPr>
              <a:t>Current Vision: </a:t>
            </a:r>
            <a:r>
              <a:rPr b="0" lang="en-GB" sz="2600" spc="-1" strike="noStrike">
                <a:solidFill>
                  <a:srgbClr val="0000ff"/>
                </a:solidFill>
                <a:latin typeface="Arial Narrow"/>
              </a:rPr>
              <a:t>“</a:t>
            </a:r>
            <a:r>
              <a:rPr b="0" lang="en-GB" sz="2600" spc="-1" strike="noStrike">
                <a:solidFill>
                  <a:srgbClr val="990099"/>
                </a:solidFill>
                <a:latin typeface="Arial Narrow"/>
              </a:rPr>
              <a:t>To be </a:t>
            </a:r>
            <a:r>
              <a:rPr b="0" lang="en-GB" sz="2600" spc="-1" strike="noStrike">
                <a:solidFill>
                  <a:srgbClr val="990099"/>
                </a:solidFill>
                <a:latin typeface="Calibri"/>
              </a:rPr>
              <a:t>One of the Leading Water Utilities in The World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alibri"/>
              </a:rPr>
              <a:t>Current Mission: </a:t>
            </a:r>
            <a:r>
              <a:rPr b="0" lang="en-GB" sz="26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GB" sz="2600" spc="-1" strike="noStrike">
                <a:solidFill>
                  <a:srgbClr val="990099"/>
                </a:solidFill>
                <a:latin typeface="Calibri"/>
              </a:rPr>
              <a:t>To Provide Efficient and Cost Effective Water and Sewerage Services, applying Innovative Managerial Solutions to the Delight of our Customer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DE883-60AD-4F9C-B797-8D892A4605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6"/>
          <p:cNvSpPr/>
          <p:nvPr/>
        </p:nvSpPr>
        <p:spPr>
          <a:xfrm>
            <a:off x="914400" y="1295280"/>
            <a:ext cx="6629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>
            <a:off x="838080" y="6095880"/>
            <a:ext cx="7239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WSC Corporate Strategy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Corporate Plan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  Strategic framework by  which the Corporation Vision, Mission , Goals and Strategies are set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Performance Contract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Contractual arrangement between the GoU and the NWSC that guides the strategic direction of the Corporation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The Corporate Plan is translated into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annual budge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Annual Division/Departmental  Pla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Individual one minute goal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( i.e. implementation targe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spcAft>
                <a:spcPts val="24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7D542-66B9-4AA9-8BCB-2136C80B1338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049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trategic planning VS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06668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e following should be noted abou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Strategic Plan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is an annual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process focussed on individual business unit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cally there is need to make just in time decisions depending on the situation at h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i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not flexible enoug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address day to day issues and is delinked from strategic decision m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is a record of judgement management already made rather than being a vehicle for identifying and debating the critical decis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that the company needs to make to produce superi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However, critical decisions have to be made on a continuous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econdly, decision making is a process which therefore should be undertaken in a timely and systematic manner to resolve strategic iss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A1A23-9DA0-4EDA-90A0-A505F196F295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6:51:30Z</dcterms:created>
  <dc:creator>peter.twesigye</dc:creator>
  <dc:description/>
  <dc:language>en-US</dc:language>
  <cp:lastModifiedBy>godfrey.katongole</cp:lastModifiedBy>
  <dcterms:modified xsi:type="dcterms:W3CDTF">2010-07-30T07:17:37Z</dcterms:modified>
  <cp:revision>149</cp:revision>
  <dc:subject/>
  <dc:title>Slide 1</dc:title>
</cp:coreProperties>
</file>