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140-9856-4BF2-81FF-817B71C6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EFA-70C1-4387-88C6-D442A07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607-F58C-4AD6-9400-691F8295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608-111E-489C-A749-64FCFE64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D19-C90C-4648-9E8C-2BFF1C8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9EC-B860-47E0-9B0F-AAA89CC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CCA-79E6-446C-A195-2BA31C2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E86-72F0-4C7A-8B7A-0C376809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F3E-851F-4D0F-A914-29672C7D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845-06CE-4677-9DCC-5DA6907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6FB-7297-423F-920C-95F8784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2A9-FB28-42FA-AFE2-36CA47F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B48-1090-4441-B3A6-5DD74D7F3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115-4B49-4E28-ADFF-89481D074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WATER AND SEWERAGE CORPORATION  CORPORATE STRATEGY AN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ＭＳ Ｐゴシック"/>
              </a:rPr>
              <a:t>Presentation to MBA Participants- Uganda Management Instit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July 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By: Prof. Dr. William T. Muhairw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5"/>
          <p:cNvSpPr/>
          <p:nvPr/>
        </p:nvSpPr>
        <p:spPr>
          <a:xfrm>
            <a:off x="1219320" y="26668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1219320" y="5943600"/>
            <a:ext cx="678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738C-ECA8-41F5-8143-CE9F5B112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order to address day to day critical issues such as water scarcity, water losses, system break down, a bottom-up decision making approach is adopted which takes the following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perational Area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dentify the issu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p Managemen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cusses and takes dec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hief Executi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wards decision to the Boar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 if Board  sanction i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e Ministry 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, If the issue has policy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im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4C7-4B2E-40E7-B2B7-3D88E8387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ddressing the need for quick decision ma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perational Plans/short term tactical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00 Days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rvice and Revenue Enhancement Programmes- SER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ea Performance Contracts (AP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nally Delegated Area Management Contracts (IDAM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tch-Ou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Minute Managemen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heckers” Programme to rationalise the M&amp; E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E94E-64CD-45BF-927F-553F3C6E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mphasis in all Performance Improvement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iority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am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llective participation in the development and formulation      of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 outs through the “stretch out programme” in which workers were fre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air out their  grievances and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nitoring and Evaluation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ers un announced visits: both process and output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raisal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rong incentive systems and equitable gain sharing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e minute managem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Contracts for all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based 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6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22FC-903B-447C-B2AB-235CA5049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Key Achie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600200"/>
          <a:ext cx="7010280" cy="4398840"/>
        </p:xfrm>
        <a:graphic>
          <a:graphicData uri="http://schemas.openxmlformats.org/drawingml/2006/table">
            <a:tbl>
              <a:tblPr/>
              <a:tblGrid>
                <a:gridCol w="3014640"/>
                <a:gridCol w="1947960"/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Connections per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ed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er 1000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tion Metered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Turnover (Billion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t (Before. Dep) (Billions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 (Surpl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162A-9B5D-41DD-B56B-06C31A37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208-1729-44D6-8011-0AD3051A9C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9903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is important as a planning too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However, Regular meetings are paramount to track progress in resolving the long term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should be underlined by programmes and plans which facilitate quick decision mak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trategic planning should  drive decisions if it is to have impact, other than focussing on individual business unit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It is important to introduce a strategic integration process focused on uncovering and addressing the business most important strategic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lways explore Opportun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5" descr="C:\Documents and Settings\peter.twesigye\Desktop\Office Image 2.jpg"/>
          <p:cNvPicPr/>
          <p:nvPr/>
        </p:nvPicPr>
        <p:blipFill>
          <a:blip r:embed="rId1"/>
          <a:stretch/>
        </p:blipFill>
        <p:spPr>
          <a:xfrm>
            <a:off x="685800" y="20574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54D3-D77D-4DFC-A638-590E3126A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"/>
          <p:cNvSpPr/>
          <p:nvPr/>
        </p:nvSpPr>
        <p:spPr>
          <a:xfrm>
            <a:off x="685800" y="61722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685800" y="16765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C:\Documents and Settings\peter.twesigye\Desktop\Image 8.jpg"/>
          <p:cNvPicPr/>
          <p:nvPr/>
        </p:nvPicPr>
        <p:blipFill>
          <a:blip r:embed="rId3"/>
          <a:stretch/>
        </p:blipFill>
        <p:spPr>
          <a:xfrm>
            <a:off x="6400800" y="2209680"/>
            <a:ext cx="198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0F9-0077-4A33-93B4-D00E6DE23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14400" y="17524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990720" y="56386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ways a difference one can create in terms of Shaping one’s future. You just need determination, commitment ,  courage and disci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, remember the say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EITHER FIND A WAY OR MAKE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I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328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1DC-B441-4768-B54D-1F852CAB73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Corporate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Strateg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refers to the approach adopted  by management to guide  the future  of the organisation (scope and dire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EEC2-25F8-4337-8EA9-44BB70111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peter.twesigye\Desktop\Image 3.jpg"/>
          <p:cNvPicPr/>
          <p:nvPr/>
        </p:nvPicPr>
        <p:blipFill>
          <a:blip r:embed="rId1"/>
          <a:stretch/>
        </p:blipFill>
        <p:spPr>
          <a:xfrm>
            <a:off x="4572000" y="3317760"/>
            <a:ext cx="3809880" cy="239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43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8"/>
          <p:cNvSpPr/>
          <p:nvPr/>
        </p:nvSpPr>
        <p:spPr>
          <a:xfrm>
            <a:off x="914400" y="152388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914400" y="5943600"/>
            <a:ext cx="7467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 cognitive process resulting in the selection of a course of action. The output can be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r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pinion of c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0B2-8B85-4F94-ADB5-B83824AA9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peter.twesigye\My Documents\Decision making 3.jpg"/>
          <p:cNvPicPr/>
          <p:nvPr/>
        </p:nvPicPr>
        <p:blipFill>
          <a:blip r:embed="rId2"/>
          <a:stretch/>
        </p:blipFill>
        <p:spPr>
          <a:xfrm>
            <a:off x="762120" y="3352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ood for th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are the first things you would do if you were appointed CEO of a  business company like, Warid Telecom, Tullow Oil, National Housing and Construction Corporation, or PS for Ministry of Water, Education, Public Service or even a clerk to Parliament, Head Master of Buddo, Director Mulago Hospi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6A7-BFFA-48C6-84AB-2198EF72D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6"/>
          <p:cNvSpPr/>
          <p:nvPr/>
        </p:nvSpPr>
        <p:spPr>
          <a:xfrm>
            <a:off x="1219320" y="160020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990720" y="556272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 theory, Any Manager would do the follow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Situation analysis/ SWO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Formulate a 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Formulate a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esign Strategic Plans and Goals (Long-term and Short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orate Plans (3-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nual Financial Budg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Formulate Operational Plans/Programmes  (short-term and long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1B70-28E4-47B5-AD30-F46813688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peter.twesigye\My Documents\Photo Clips\Image 4.jpg"/>
          <p:cNvPicPr/>
          <p:nvPr/>
        </p:nvPicPr>
        <p:blipFill>
          <a:blip r:embed="rId1"/>
          <a:stretch/>
        </p:blipFill>
        <p:spPr>
          <a:xfrm>
            <a:off x="5715000" y="198108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peter.twesigye\My Documents\Photo Clips\Image 11.jpg"/>
          <p:cNvPicPr/>
          <p:nvPr/>
        </p:nvPicPr>
        <p:blipFill>
          <a:blip r:embed="rId2"/>
          <a:stretch/>
        </p:blipFill>
        <p:spPr>
          <a:xfrm>
            <a:off x="6248520" y="3395520"/>
            <a:ext cx="205740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8"/>
          <p:cNvSpPr/>
          <p:nvPr/>
        </p:nvSpPr>
        <p:spPr>
          <a:xfrm>
            <a:off x="1066680" y="182880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1066680" y="5943600"/>
            <a:ext cx="7391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ransformation Process.</a:t>
            </a: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NWSC Approach to SWOT Analy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WSC SWOT Analysis as at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engths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nd infrastructure, abundant plant production capacity enabling legislative framework, well trained workforce, sound billing system, good corporate planning strategy, good financial budget planning polic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aknesses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 staff productivity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36 staff/1000   connections),high UfW (60%), Low Collection Efficiency - 71%, huge arrears of about 14 months of billing, high number of unviable town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pportunities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overnment support, relatively st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economy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onor support, abundant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water resources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reats: 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uge Debt and pending debt Servicing  obligations, VAT law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763E-8AB3-4327-9224-268D700AF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6"/>
          <p:cNvSpPr/>
          <p:nvPr/>
        </p:nvSpPr>
        <p:spPr>
          <a:xfrm>
            <a:off x="1143000" y="144792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1219320" y="601992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VISION &amp;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Vision: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the Pride of the Water Sector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Mission:</a:t>
            </a:r>
            <a:r>
              <a:rPr b="1" lang="en-US" sz="2600" spc="-1" strike="noStrike">
                <a:solidFill>
                  <a:srgbClr val="c0504d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a Customer Oriented Organization, providing Excellent Water and Sewerage Services in a cost effective mann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 Narrow"/>
              </a:rPr>
              <a:t>Current Vision: </a:t>
            </a:r>
            <a:r>
              <a:rPr b="0" lang="en-GB" sz="2600" spc="-1" strike="noStrike">
                <a:solidFill>
                  <a:srgbClr val="0000ff"/>
                </a:solidFill>
                <a:latin typeface="Arial Narrow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Arial Narrow"/>
              </a:rPr>
              <a:t>To be 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One of the Leading Water Utilities in The Worl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alibri"/>
              </a:rPr>
              <a:t>Current Mission: </a:t>
            </a:r>
            <a:r>
              <a:rPr b="0" lang="en-GB" sz="26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To Provide Efficient and Cost Effective Water and Sewerage Services, applying Innovative Managerial Solutions to the Delight of our Customer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D26-53FB-4134-8B75-AA3490172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6"/>
          <p:cNvSpPr/>
          <p:nvPr/>
        </p:nvSpPr>
        <p:spPr>
          <a:xfrm>
            <a:off x="914400" y="12952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838080" y="6095880"/>
            <a:ext cx="7239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WSC Corporate Strategy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Plan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 Strategic framework by  which the Corporation Vision, Mission , Goals and Strategies are se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Performance Contract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ntractual arrangement between the GoU and the NWSC that guides the strategic direction of the Corporation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The Corporate Plan is translated into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budge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Division/Departmental 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Individual one minute goal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( i.e. implementation targe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3A5-BEE1-46E3-B4D8-E4A34BE38C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rategic planning V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0666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 following should be noted abou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trategic Plan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an annu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rocess focussed on individual business unit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cally there is need to make just in time decisions depending on the situation at h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not flexible enoug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address day to day issues and is delinked from strategic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is a record of judgement management already made rather than being a vehicle for identifying and debating the critical decis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that the company needs to make to produce superi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owever, critical decisions have to be made on a continuous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econdly, decision making is a process which therefore should be undertaken in a timely and systematic manner to resolve strategic iss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AB0-BBE3-4E62-A1FC-662C34EE0E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51:30Z</dcterms:created>
  <dc:creator>peter.twesigye</dc:creator>
  <dc:description/>
  <dc:language>en-US</dc:language>
  <cp:lastModifiedBy>godfrey.katongole</cp:lastModifiedBy>
  <dcterms:modified xsi:type="dcterms:W3CDTF">2010-07-30T07:17:37Z</dcterms:modified>
  <cp:revision>149</cp:revision>
  <dc:subject/>
  <dc:title>Slide 1</dc:title>
</cp:coreProperties>
</file>