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DAD-911C-43C4-AA21-811D750B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ECD-EA4F-426C-8078-444885E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11F-97A9-4531-9CF8-04D9FC7E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202-C397-4604-81C2-DD8D25EF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CA5-999F-4037-AB72-E00E73FA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295-00C1-4766-8DA4-6256EF70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BEB-B174-4F32-B209-954AFA1F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6DC-659B-423F-A8DC-645350D7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20B-CEC6-4A06-89E9-E9BD0459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E83-4A60-4D65-BF9F-33CE856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B55-9945-4AA1-978F-79AB396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0DD-8955-488E-974E-D12DC89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785C-2982-4AC9-B877-0B63BD50D4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AB64-3CA4-477C-B05F-5FF32E113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TIONAL WATER AND SEWERAGE CORPORATION  CORPORATE STRATEGY AND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ＭＳ Ｐゴシック"/>
              </a:rPr>
              <a:t>Presentation to MBA Participants- Uganda Management Instit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July 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98989"/>
                </a:solidFill>
                <a:latin typeface="Calibri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Calibri"/>
              </a:rPr>
              <a:t>By: Prof. Dr. William T. Muhairw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5"/>
          <p:cNvSpPr/>
          <p:nvPr/>
        </p:nvSpPr>
        <p:spPr>
          <a:xfrm>
            <a:off x="1219320" y="26668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1219320" y="5943600"/>
            <a:ext cx="678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CD0F-C584-4D20-BB73-765ED6253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mak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order to address day to day critical issues such as water scarcity, water losses, system break down, a bottom-up decision making approach is adopted which takes the following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perational Area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dentify the issue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op Managemen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cusses and takes dec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hief Executiv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wards decision to the Boar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 if Board  sanction i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e Ministry 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, If the issue has policy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im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AF09-EC0A-483D-AD64-80F09F9DD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ddressing the need for quick decision mak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perational Plans/short term tactical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00 Days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rvice and Revenue Enhancement Programmes- SER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ea Performance Contracts (AP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ernally Delegated Area Management Contracts (IDAM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tch-Ou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e Minute Managemen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heckers” Programme to rationalise the M&amp; E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2C8-25BA-49A2-B94B-8AB4FB213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mphasis in all Performance Improvement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iority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stomer foc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am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llective participation in the development and formulation      of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 outs through the “stretch out programme” in which workers were fre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air out their  grievances and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nitoring and Evaluation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eckers un announced visits: both process and output ori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raisal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rong incentive systems and equitable gain sharing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ne minute management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Contracts for all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based 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nal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6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513B-B4BF-413D-A3B6-C7E16B08C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Key Achie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600200"/>
          <a:ext cx="7010280" cy="4398840"/>
        </p:xfrm>
        <a:graphic>
          <a:graphicData uri="http://schemas.openxmlformats.org/drawingml/2006/table">
            <a:tbl>
              <a:tblPr/>
              <a:tblGrid>
                <a:gridCol w="3014640"/>
                <a:gridCol w="1947960"/>
                <a:gridCol w="2047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Co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Connections per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ed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per 1000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tion Metered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Turnover (Billion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t (Before. Dep) (Billions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 (Surpl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8A85-9123-482D-8FC8-BD71E7E68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9A6E-2CAA-4262-B384-E2A6A59025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99036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is important as a planning too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However, Regular meetings are paramount to track progress in resolving the long term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should be underlined by programmes and plans which facilitate quick decision mak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trategic planning should  drive decisions if it is to have impact, other than focussing on individual business unit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It is important to introduce a strategic integration process focused on uncovering and addressing the business most important strategic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lways explore Opportun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5" descr="C:\Documents and Settings\peter.twesigye\Desktop\Office Image 2.jpg"/>
          <p:cNvPicPr/>
          <p:nvPr/>
        </p:nvPicPr>
        <p:blipFill>
          <a:blip r:embed="rId1"/>
          <a:stretch/>
        </p:blipFill>
        <p:spPr>
          <a:xfrm>
            <a:off x="685800" y="2057400"/>
            <a:ext cx="556272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E169-D562-4694-A969-0E4DC37CE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"/>
          <p:cNvSpPr/>
          <p:nvPr/>
        </p:nvSpPr>
        <p:spPr>
          <a:xfrm>
            <a:off x="685800" y="61722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685800" y="16765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C:\Documents and Settings\peter.twesigye\Desktop\Image 8.jpg"/>
          <p:cNvPicPr/>
          <p:nvPr/>
        </p:nvPicPr>
        <p:blipFill>
          <a:blip r:embed="rId3"/>
          <a:stretch/>
        </p:blipFill>
        <p:spPr>
          <a:xfrm>
            <a:off x="6400800" y="2209680"/>
            <a:ext cx="1981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CB6-9626-43EA-96BE-3B0F5B939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14400" y="17524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990720" y="56386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9051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ways a difference one can create in terms of Shaping one’s future. You just need determination, commitment ,  courage and disci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, remember the saying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EITHER FIND A WAY OR MAKE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I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328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FE6-06A1-4FDF-846C-FFA548FFC7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Corporate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Strategy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refers to the approach adopted  by management to guide  the future  of the organisation (scope and directio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6CB-99C4-4463-B027-13C55D816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peter.twesigye\Desktop\Image 3.jpg"/>
          <p:cNvPicPr/>
          <p:nvPr/>
        </p:nvPicPr>
        <p:blipFill>
          <a:blip r:embed="rId1"/>
          <a:stretch/>
        </p:blipFill>
        <p:spPr>
          <a:xfrm>
            <a:off x="4572000" y="3317760"/>
            <a:ext cx="3809880" cy="239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3433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8"/>
          <p:cNvSpPr/>
          <p:nvPr/>
        </p:nvSpPr>
        <p:spPr>
          <a:xfrm>
            <a:off x="914400" y="152388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0"/>
          <p:cNvSpPr/>
          <p:nvPr/>
        </p:nvSpPr>
        <p:spPr>
          <a:xfrm>
            <a:off x="914400" y="5943600"/>
            <a:ext cx="7467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 cognitive process resulting in the selection of a course of action. The output can be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r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pinion of c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B57-C5D8-4322-8BE9-3B100F228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peter.twesigye\My Documents\Decision making 3.jpg"/>
          <p:cNvPicPr/>
          <p:nvPr/>
        </p:nvPicPr>
        <p:blipFill>
          <a:blip r:embed="rId2"/>
          <a:stretch/>
        </p:blipFill>
        <p:spPr>
          <a:xfrm>
            <a:off x="762120" y="3352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ood for th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are the first things you would do if you were appointed CEO of a  business company like, Warid Telecom, Tullow Oil, National Housing and Construction Corporation, or PS for Ministry of Water, Education, Public Service or even a clerk to Parliament, Head Master of Buddo, Director Mulago Hospi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7E6-890A-430B-93AD-07C7ABB51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6"/>
          <p:cNvSpPr/>
          <p:nvPr/>
        </p:nvSpPr>
        <p:spPr>
          <a:xfrm>
            <a:off x="1219320" y="160020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990720" y="556272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 theory, Any Manager would do the follow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Situation analysis/ SWO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Formulate a 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Formulate a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esign Strategic Plans and Goals (Long-term and Short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porate Plans (3-5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nual Financial Budg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Formulate Operational Plans/Programmes  (short-term and long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68F8-194E-4232-AF0C-84697D242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peter.twesigye\My Documents\Photo Clips\Image 4.jpg"/>
          <p:cNvPicPr/>
          <p:nvPr/>
        </p:nvPicPr>
        <p:blipFill>
          <a:blip r:embed="rId1"/>
          <a:stretch/>
        </p:blipFill>
        <p:spPr>
          <a:xfrm>
            <a:off x="5715000" y="1981080"/>
            <a:ext cx="25909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peter.twesigye\My Documents\Photo Clips\Image 11.jpg"/>
          <p:cNvPicPr/>
          <p:nvPr/>
        </p:nvPicPr>
        <p:blipFill>
          <a:blip r:embed="rId2"/>
          <a:stretch/>
        </p:blipFill>
        <p:spPr>
          <a:xfrm>
            <a:off x="6248520" y="3395520"/>
            <a:ext cx="205740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8"/>
          <p:cNvSpPr/>
          <p:nvPr/>
        </p:nvSpPr>
        <p:spPr>
          <a:xfrm>
            <a:off x="1066680" y="182880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1066680" y="5943600"/>
            <a:ext cx="7391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Transformation Process.</a:t>
            </a:r>
            <a:br>
              <a:rPr sz="2900"/>
            </a:b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NWSC Approach to SWOT Analy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WSC SWOT Analysis as at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engths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nd infrastructure, abundant plant production capacity enabling legislative framework, well trained workforce, sound billing system, good corporate planning strategy, good financial budget planning policy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aknesses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 staff productivity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36 staff/1000   connections),high UfW (60%), Low Collection Efficiency - 71%, huge arrears of about 14 months of billing, high number of unviable town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pportunities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overnment support, relatively stable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economy,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onor support, abundant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water resources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reats: 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uge Debt and pending debt Servicing  obligations, VAT law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BFB7-4670-4C49-ABE8-DAAFF4F67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6"/>
          <p:cNvSpPr/>
          <p:nvPr/>
        </p:nvSpPr>
        <p:spPr>
          <a:xfrm>
            <a:off x="1143000" y="144792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>
            <a:off x="1219320" y="601992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VISION &amp; 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Vision: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the Pride of the Water Sector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Mission:</a:t>
            </a:r>
            <a:r>
              <a:rPr b="1" lang="en-US" sz="2600" spc="-1" strike="noStrike">
                <a:solidFill>
                  <a:srgbClr val="c0504d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a Customer Oriented Organization, providing Excellent Water and Sewerage Services in a cost effective mann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 Narrow"/>
              </a:rPr>
              <a:t>Current Vision: </a:t>
            </a:r>
            <a:r>
              <a:rPr b="0" lang="en-GB" sz="2600" spc="-1" strike="noStrike">
                <a:solidFill>
                  <a:srgbClr val="0000ff"/>
                </a:solidFill>
                <a:latin typeface="Arial Narrow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Arial Narrow"/>
              </a:rPr>
              <a:t>To be 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One of the Leading Water Utilities in The Worl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alibri"/>
              </a:rPr>
              <a:t>Current Mission: </a:t>
            </a:r>
            <a:r>
              <a:rPr b="0" lang="en-GB" sz="26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To Provide Efficient and Cost Effective Water and Sewerage Services, applying Innovative Managerial Solutions to the Delight of our Customer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906-E621-4EDD-8B33-ED8B4D2E1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6"/>
          <p:cNvSpPr/>
          <p:nvPr/>
        </p:nvSpPr>
        <p:spPr>
          <a:xfrm>
            <a:off x="914400" y="12952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838080" y="6095880"/>
            <a:ext cx="7239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WSC Corporate Strategy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Plan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 Strategic framework by  which the Corporation Vision, Mission , Goals and Strategies are set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Performance Contract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ntractual arrangement between the GoU and the NWSC that guides the strategic direction of the Corporation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The Corporate Plan is translated into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budge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Division/Departmental  Pla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Individual one minute goal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( i.e. implementation targe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7C94-2FA0-4CF5-93F0-48CFB55E12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049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trategic planning V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06668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e following should be noted abou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trategic Plan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an annu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process focussed on individual business unit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cally there is need to make just in time decisions depending on the situation at h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not flexible enoug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address day to day issues and is delinked from strategic decision 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is a record of judgement management already made rather than being a vehicle for identifying and debating the critical decis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that the company needs to make to produce superi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However, critical decisions have to be made on a continuous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econdly, decision making is a process which therefore should be undertaken in a timely and systematic manner to resolve strategic iss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E948-D5DC-4DDB-A9B7-81C79893E4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6:51:30Z</dcterms:created>
  <dc:creator>peter.twesigye</dc:creator>
  <dc:description/>
  <dc:language>en-US</dc:language>
  <cp:lastModifiedBy>godfrey.katongole</cp:lastModifiedBy>
  <dcterms:modified xsi:type="dcterms:W3CDTF">2010-07-30T07:17:37Z</dcterms:modified>
  <cp:revision>149</cp:revision>
  <dc:subject/>
  <dc:title>Slide 1</dc:title>
</cp:coreProperties>
</file>