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9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07A5-598E-4BB5-950C-443343A593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C4747-75EC-4AD0-9C96-71EBB507A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F7AF-FC5D-4E40-AFDF-B7CCBBCF0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DD67-BEBB-496E-9655-CFB2933FC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B4DEE-5EAE-44B4-8008-7DCC81DB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E6C7-95BB-4F47-8686-EC06EAC589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31466-CF6B-4A1F-BF0E-0B75CC72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0F2F-08AF-47F7-A8CE-C0A48198B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68D3-5802-4EB0-B59F-9DBDA3756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31FA-53CF-48A8-866D-DF38BDE1B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3CAF-2B12-403F-938E-5743FDD0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4E15-5120-4C37-9C4B-5092EAAA9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F6EBE-2E77-4CE5-8C4A-CECF3F0533F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EDA4A-B440-452E-BE4D-5EC62580B17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.wmf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1066320"/>
            <a:ext cx="792504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ATIONAL WATER AND SEWERAGE CORPORATION  CORPORATE STRATEGY AND DECISION MAK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2971800"/>
            <a:ext cx="6400800" cy="281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7030a0"/>
                </a:solidFill>
                <a:latin typeface="Calibri"/>
                <a:ea typeface="ＭＳ Ｐゴシック"/>
              </a:rPr>
              <a:t>Presentation to MBA Participants- Uganda Management Institut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31</a:t>
            </a:r>
            <a:r>
              <a:rPr b="1" lang="en-GB" sz="1800" spc="-1" strike="noStrike" baseline="30000">
                <a:solidFill>
                  <a:srgbClr val="000000"/>
                </a:solidFill>
                <a:latin typeface="Calibri"/>
              </a:rPr>
              <a:t>st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 July  20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898989"/>
                </a:solidFill>
                <a:latin typeface="Calibri"/>
              </a:rPr>
              <a:t>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7030a0"/>
                </a:solidFill>
                <a:latin typeface="Calibri"/>
              </a:rPr>
              <a:t>By: Prof. Dr. William T. Muhairw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44" name="Straight Connector 5"/>
          <p:cNvSpPr/>
          <p:nvPr/>
        </p:nvSpPr>
        <p:spPr>
          <a:xfrm>
            <a:off x="1219320" y="26668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7"/>
          <p:cNvSpPr/>
          <p:nvPr/>
        </p:nvSpPr>
        <p:spPr>
          <a:xfrm>
            <a:off x="1219320" y="5943600"/>
            <a:ext cx="67816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CC456-E8DF-4720-98A3-762CA08B53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Decision making proces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990720" y="1447920"/>
            <a:ext cx="7696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 order to address day to day critical issues such as water scarcity, water losses, system break down, a bottom-up decision making approach is adopted which takes the following step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Operational Area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dentify the issue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/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problem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Top Management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Discusses and takes decis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Chief Executive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Forwards decision to the Board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Board of Directors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 if Board  sanction is requir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Line Ministry  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=&gt;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ptional, If the issue has policy                      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         implication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F3E16-30C3-4F0C-88C8-1A94BCB599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99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ddressing the need for quick decision making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8052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Operational Plans/short term tactical programm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100 Days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ervice and Revenue Enhancement Programmes- SEREP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Area Performance Contracts (AP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Internally Delegated Area Management Contracts (IDAMC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Stretch-Ou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One Minute Management Programm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GB" sz="2200" spc="-1" strike="noStrike">
                <a:solidFill>
                  <a:srgbClr val="000000"/>
                </a:solidFill>
                <a:latin typeface="Calibri"/>
              </a:rPr>
              <a:t>Checkers” Programme to rationalise the M&amp; E activit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F6E-F863-4C48-B37A-DD2FE48990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05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Emphasis in all Performance Improvement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533520" y="159984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Priority sett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Customer focu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eam 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ollective participation in the development and formulation      of 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rogramm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Work outs through the “stretch out programme” in which workers were free 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to air out their  grievances and need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Monitoring and Evaluation Syste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Checkers un announced visits: both process and output ori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554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Appraisal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Strong incentive systems and equitable gain sharing pla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One minute management sys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Contracts for all staff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rformance based pa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512640" indent="282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alibri"/>
              </a:rPr>
              <a:t>Penalti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9698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50E9C-198C-464D-8079-25C44F2B7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11" name="Straight Connector 6"/>
          <p:cNvSpPr/>
          <p:nvPr/>
        </p:nvSpPr>
        <p:spPr>
          <a:xfrm>
            <a:off x="1066680" y="1371600"/>
            <a:ext cx="64771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traight Connector 8"/>
          <p:cNvSpPr/>
          <p:nvPr/>
        </p:nvSpPr>
        <p:spPr>
          <a:xfrm>
            <a:off x="1143000" y="6172200"/>
            <a:ext cx="69343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Key Achieve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1143000" y="1600200"/>
          <a:ext cx="7010280" cy="4398840"/>
        </p:xfrm>
        <a:graphic>
          <a:graphicData uri="http://schemas.openxmlformats.org/drawingml/2006/table">
            <a:tbl>
              <a:tblPr/>
              <a:tblGrid>
                <a:gridCol w="3014640"/>
                <a:gridCol w="1947960"/>
                <a:gridCol w="204768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erformance Indic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199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vice Covera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0,8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6,45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w Connections per ye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,3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22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etered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7,2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0" rIns="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5,19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taff per 1000 Connec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llection Efficien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R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portion Metered Accou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5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9 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nnual Turnover (Billion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rofit (Before. Dep) (Billions Sh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.0 (los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5.4 (Surplu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115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F13D-C0B0-46BB-A714-F4BA69EDEE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229600" cy="571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322B1-5BFE-48DF-9AAD-12D1B8118D84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28760" y="990360"/>
            <a:ext cx="8229600" cy="501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is important as a planning tool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However, Regular meetings are paramount to track progress in resolving the long term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Corporate strategy should be underlined by programmes and plans which facilitate quick decision making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</a:rPr>
              <a:t>Strategic planning should  drive decisions if it is to have impact, other than focussing on individual business units.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Calibri"/>
                <a:ea typeface="HGP明朝E"/>
              </a:rPr>
              <a:t>It is important to introduce a strategic integration process focused on uncovering and addressing the business most important strategic issues.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Always explore Opportunities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123" name="Picture 5" descr="C:\Documents and Settings\peter.twesigye\Desktop\Office Image 2.jpg"/>
          <p:cNvPicPr/>
          <p:nvPr/>
        </p:nvPicPr>
        <p:blipFill>
          <a:blip r:embed="rId1"/>
          <a:stretch/>
        </p:blipFill>
        <p:spPr>
          <a:xfrm>
            <a:off x="685800" y="2057400"/>
            <a:ext cx="5562720" cy="38862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"/>
          <p:cNvPicPr/>
          <p:nvPr/>
        </p:nvPicPr>
        <p:blipFill>
          <a:blip r:embed="rId2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25" name="Slide Number Placeholder 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4C212-4E27-45EA-AE5F-70F3A84946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Straight Connector 10"/>
          <p:cNvSpPr/>
          <p:nvPr/>
        </p:nvSpPr>
        <p:spPr>
          <a:xfrm>
            <a:off x="685800" y="617220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Straight Connector 12"/>
          <p:cNvSpPr/>
          <p:nvPr/>
        </p:nvSpPr>
        <p:spPr>
          <a:xfrm>
            <a:off x="685800" y="1676520"/>
            <a:ext cx="77724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6" descr="C:\Documents and Settings\peter.twesigye\Desktop\Image 8.jpg"/>
          <p:cNvPicPr/>
          <p:nvPr/>
        </p:nvPicPr>
        <p:blipFill>
          <a:blip r:embed="rId3"/>
          <a:stretch/>
        </p:blipFill>
        <p:spPr>
          <a:xfrm>
            <a:off x="6400800" y="2209680"/>
            <a:ext cx="1981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7391520" y="228600"/>
            <a:ext cx="1523880" cy="1371600"/>
          </a:xfrm>
          <a:prstGeom prst="rect">
            <a:avLst/>
          </a:prstGeom>
          <a:ln w="0">
            <a:noFill/>
          </a:ln>
        </p:spPr>
      </p:pic>
      <p:sp>
        <p:nvSpPr>
          <p:cNvPr id="130" name="Slide Number Placehold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9F4F4-A064-4F33-8B40-56101139FBE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Straight Connector 8"/>
          <p:cNvSpPr/>
          <p:nvPr/>
        </p:nvSpPr>
        <p:spPr>
          <a:xfrm>
            <a:off x="914400" y="17524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traight Connector 10"/>
          <p:cNvSpPr/>
          <p:nvPr/>
        </p:nvSpPr>
        <p:spPr>
          <a:xfrm>
            <a:off x="990720" y="5638680"/>
            <a:ext cx="73152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3"/>
          <p:cNvSpPr/>
          <p:nvPr/>
        </p:nvSpPr>
        <p:spPr>
          <a:xfrm>
            <a:off x="457200" y="1905120"/>
            <a:ext cx="8305920" cy="35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lways a difference one can create in terms of Shaping one’s future. You just need determination, commitment ,  courage and discip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ways, remember the saying: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MUST EITHER FIND A WAY OR MAKE ON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HANNIB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26920" y="328428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hank you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Slide Number Placeholder 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C9677-583B-44DE-B430-78D09E7441BA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685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Corporate Strateg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61760" y="1523880"/>
            <a:ext cx="746748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Strategy  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  <a:ea typeface="HGP明朝E"/>
              </a:rPr>
              <a:t>refers to the approach adopted  by management to guide  the future  of the organisation (scope and direction)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7AF9C-AE46-4FC3-B4DA-98C13D512D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2" descr="C:\Documents and Settings\peter.twesigye\Desktop\Image 3.jpg"/>
          <p:cNvPicPr/>
          <p:nvPr/>
        </p:nvPicPr>
        <p:blipFill>
          <a:blip r:embed="rId1"/>
          <a:stretch/>
        </p:blipFill>
        <p:spPr>
          <a:xfrm>
            <a:off x="4572000" y="3317760"/>
            <a:ext cx="3809880" cy="23972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" descr=""/>
          <p:cNvPicPr/>
          <p:nvPr/>
        </p:nvPicPr>
        <p:blipFill>
          <a:blip r:embed="rId2"/>
          <a:stretch/>
        </p:blipFill>
        <p:spPr>
          <a:xfrm>
            <a:off x="1066680" y="3352680"/>
            <a:ext cx="3343320" cy="23623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53" name="Straight Connector 8"/>
          <p:cNvSpPr/>
          <p:nvPr/>
        </p:nvSpPr>
        <p:spPr>
          <a:xfrm>
            <a:off x="914400" y="1523880"/>
            <a:ext cx="68580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10"/>
          <p:cNvSpPr/>
          <p:nvPr/>
        </p:nvSpPr>
        <p:spPr>
          <a:xfrm>
            <a:off x="914400" y="5943600"/>
            <a:ext cx="74674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What i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 cognitive process resulting in the selection of a course of action. The output can be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action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r an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opinion of cho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HGP明朝E"/>
              </a:rPr>
              <a:t>ic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DAEAB-9B7C-472F-B63F-68D970D9639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"/>
          <p:cNvPicPr/>
          <p:nvPr/>
        </p:nvPicPr>
        <p:blipFill>
          <a:blip r:embed="rId1"/>
          <a:stretch/>
        </p:blipFill>
        <p:spPr>
          <a:xfrm>
            <a:off x="4572000" y="3352680"/>
            <a:ext cx="3886200" cy="26672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9" descr="C:\Documents and Settings\peter.twesigye\My Documents\Decision making 3.jpg"/>
          <p:cNvPicPr/>
          <p:nvPr/>
        </p:nvPicPr>
        <p:blipFill>
          <a:blip r:embed="rId2"/>
          <a:stretch/>
        </p:blipFill>
        <p:spPr>
          <a:xfrm>
            <a:off x="762120" y="3352680"/>
            <a:ext cx="3733560" cy="2667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3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Food for though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762120" y="1981080"/>
            <a:ext cx="7619760" cy="335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Arial"/>
              </a:rPr>
              <a:t>What are the first things you would do if you were appointed CEO of a  business company like, Warid Telecom, Tullow Oil, National Housing and Construction Corporation, or PS for Ministry of Water, Education, Public Service or even a clerk to Parliament, Head Master of Buddo, Director Mulago Hospital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1C524-4D19-489B-97FD-3B8C1875186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65" name="Straight Connector 6"/>
          <p:cNvSpPr/>
          <p:nvPr/>
        </p:nvSpPr>
        <p:spPr>
          <a:xfrm>
            <a:off x="1219320" y="160020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Straight Connector 8"/>
          <p:cNvSpPr/>
          <p:nvPr/>
        </p:nvSpPr>
        <p:spPr>
          <a:xfrm>
            <a:off x="990720" y="556272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240" y="609480"/>
            <a:ext cx="7086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In theory, Any Manager would do the following: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990360" y="1980720"/>
            <a:ext cx="73911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1.Situation analysis/ SWOT analysi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2. Formulate a Vision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3. Formulate a Miss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4. Design Strategic Plans and Goals (Long-term and Short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rporate Plans (3-5 year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Annual Financial Budge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5. Formulate Operational Plans/Programmes  (short-term and long-term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5389B-8657-477D-B383-2EC78EF5F72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C:\Documents and Settings\peter.twesigye\My Documents\Photo Clips\Image 4.jpg"/>
          <p:cNvPicPr/>
          <p:nvPr/>
        </p:nvPicPr>
        <p:blipFill>
          <a:blip r:embed="rId1"/>
          <a:stretch/>
        </p:blipFill>
        <p:spPr>
          <a:xfrm>
            <a:off x="5715000" y="1981080"/>
            <a:ext cx="2590920" cy="1371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C:\Documents and Settings\peter.twesigye\My Documents\Photo Clips\Image 11.jpg"/>
          <p:cNvPicPr/>
          <p:nvPr/>
        </p:nvPicPr>
        <p:blipFill>
          <a:blip r:embed="rId2"/>
          <a:stretch/>
        </p:blipFill>
        <p:spPr>
          <a:xfrm>
            <a:off x="6248520" y="3395520"/>
            <a:ext cx="2057400" cy="1557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3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3" name="Straight Connector 8"/>
          <p:cNvSpPr/>
          <p:nvPr/>
        </p:nvSpPr>
        <p:spPr>
          <a:xfrm>
            <a:off x="1066680" y="1828800"/>
            <a:ext cx="70866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traight Connector 10"/>
          <p:cNvSpPr/>
          <p:nvPr/>
        </p:nvSpPr>
        <p:spPr>
          <a:xfrm>
            <a:off x="1066680" y="5943600"/>
            <a:ext cx="739152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Transformation Process.</a:t>
            </a:r>
            <a:br>
              <a:rPr sz="2900"/>
            </a:br>
            <a:r>
              <a:rPr b="1" lang="en-GB" sz="2900" spc="-1" strike="noStrike">
                <a:solidFill>
                  <a:srgbClr val="000000"/>
                </a:solidFill>
                <a:latin typeface="Calibri"/>
              </a:rPr>
              <a:t>NWSC Approach to SWOT Analysi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2388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NWSC SWOT Analysis as at 19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trengths: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ound infrastructure, abundant plant production capacity enabling legislative framework, well trained workforce, sound billing system, good corporate planning strategy, good financial budget planning policy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Weaknesses: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ow staff productivity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(36 staff/1000   connections),high UfW (60%), Low Collection Efficiency - 71%, huge arrears of about 14 months of billing, high number of unviable towns.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Opportunities: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Government support, relatively stable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economy,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donor support, abundant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   water resources, 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25"/>
              </a:spcBef>
              <a:spcAft>
                <a:spcPts val="4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Threats:    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700" spc="-1" strike="noStrike">
                <a:solidFill>
                  <a:srgbClr val="000000"/>
                </a:solidFill>
                <a:latin typeface="Arial"/>
              </a:rPr>
              <a:t>Huge Debt and pending debt Servicing  obligations, VAT law.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4CBB5-A9AE-4DD3-9076-271DED5CF6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79" name="Straight Connector 6"/>
          <p:cNvSpPr/>
          <p:nvPr/>
        </p:nvSpPr>
        <p:spPr>
          <a:xfrm>
            <a:off x="1143000" y="1447920"/>
            <a:ext cx="655308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Straight Connector 8"/>
          <p:cNvSpPr/>
          <p:nvPr/>
        </p:nvSpPr>
        <p:spPr>
          <a:xfrm>
            <a:off x="1219320" y="6019920"/>
            <a:ext cx="6858000" cy="14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NWSC VISION &amp; MIS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6960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Vision: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the Pride of the Water Sector in Africa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c0504d"/>
                </a:solidFill>
                <a:latin typeface="Calibri"/>
              </a:rPr>
              <a:t>Previous Mission:</a:t>
            </a:r>
            <a:r>
              <a:rPr b="1" lang="en-US" sz="2600" spc="-1" strike="noStrike">
                <a:solidFill>
                  <a:srgbClr val="c0504d"/>
                </a:solidFill>
                <a:latin typeface="Arial Narrow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Arial Narrow"/>
              </a:rPr>
              <a:t>To be a Customer Oriented Organization, providing Excellent Water and Sewerage Services in a cost effective manner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Arial Narrow"/>
              </a:rPr>
              <a:t>Current Vision: </a:t>
            </a:r>
            <a:r>
              <a:rPr b="0" lang="en-GB" sz="2600" spc="-1" strike="noStrike">
                <a:solidFill>
                  <a:srgbClr val="0000ff"/>
                </a:solidFill>
                <a:latin typeface="Arial Narrow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Arial Narrow"/>
              </a:rPr>
              <a:t>To be 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One of the Leading Water Utilities in The World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000ff"/>
                </a:solidFill>
                <a:latin typeface="Calibri"/>
              </a:rPr>
              <a:t>Current Mission: </a:t>
            </a:r>
            <a:r>
              <a:rPr b="0" lang="en-GB" sz="2600" spc="-1" strike="noStrike">
                <a:solidFill>
                  <a:srgbClr val="0000ff"/>
                </a:solidFill>
                <a:latin typeface="Calibri"/>
              </a:rPr>
              <a:t>“</a:t>
            </a:r>
            <a:r>
              <a:rPr b="0" lang="en-GB" sz="2600" spc="-1" strike="noStrike">
                <a:solidFill>
                  <a:srgbClr val="990099"/>
                </a:solidFill>
                <a:latin typeface="Calibri"/>
              </a:rPr>
              <a:t>To Provide Efficient and Cost Effective Water and Sewerage Services, applying Innovative Managerial Solutions to the Delight of our Customers.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EAB5C-D902-4F02-86F5-22BE86107B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3" descr=""/>
          <p:cNvPicPr/>
          <p:nvPr/>
        </p:nvPicPr>
        <p:blipFill>
          <a:blip r:embed="rId1"/>
          <a:stretch/>
        </p:blipFill>
        <p:spPr>
          <a:xfrm>
            <a:off x="7467480" y="228600"/>
            <a:ext cx="1524240" cy="1371600"/>
          </a:xfrm>
          <a:prstGeom prst="rect">
            <a:avLst/>
          </a:prstGeom>
          <a:ln w="0">
            <a:noFill/>
          </a:ln>
        </p:spPr>
      </p:pic>
      <p:sp>
        <p:nvSpPr>
          <p:cNvPr id="85" name="Straight Connector 6"/>
          <p:cNvSpPr/>
          <p:nvPr/>
        </p:nvSpPr>
        <p:spPr>
          <a:xfrm>
            <a:off x="914400" y="1295280"/>
            <a:ext cx="662940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Straight Connector 8"/>
          <p:cNvSpPr/>
          <p:nvPr/>
        </p:nvSpPr>
        <p:spPr>
          <a:xfrm>
            <a:off x="838080" y="6095880"/>
            <a:ext cx="7239240" cy="18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-2286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WSC Corporate Strategy Framework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151920" y="1218960"/>
            <a:ext cx="853452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rporate Plan: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 Strategic framework by  which the Corporation Vision, Mission , Goals and Strategies are set out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Performance Contract: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Contractual arrangement between the GoU and the NWSC that guides the strategic direction of the Corporation 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The Corporate Plan is translated into the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budget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,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Annual Division/Departmental  Plans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 and </a:t>
            </a:r>
            <a:r>
              <a:rPr b="1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Individual one minute goals </a:t>
            </a:r>
            <a:r>
              <a:rPr b="0" lang="en-GB" sz="2400" spc="-1" strike="noStrike">
                <a:solidFill>
                  <a:srgbClr val="000000"/>
                </a:solidFill>
                <a:latin typeface="Calibri"/>
                <a:ea typeface="HGP明朝E"/>
              </a:rPr>
              <a:t>( i.e. implementation targets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71640" indent="-514440" algn="just">
              <a:spcBef>
                <a:spcPts val="700"/>
              </a:spcBef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A0870-6A41-4B46-BFC4-8F4F3417A82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04920" y="2286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alibri"/>
              </a:rPr>
              <a:t>Strategic planning VS Decision Making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357120" y="1066680"/>
            <a:ext cx="8229600" cy="49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The following should be noted about </a:t>
            </a:r>
            <a:r>
              <a:rPr b="1" lang="en-GB" sz="1800" spc="-1" strike="noStrike" u="sng">
                <a:solidFill>
                  <a:srgbClr val="000000"/>
                </a:solidFill>
                <a:uFillTx/>
                <a:latin typeface="Calibri"/>
              </a:rPr>
              <a:t>Strategic Plann</a:t>
            </a:r>
            <a:r>
              <a:rPr b="1" lang="en-GB" sz="1800" spc="-1" strike="noStrike">
                <a:solidFill>
                  <a:srgbClr val="000000"/>
                </a:solidFill>
                <a:latin typeface="Calibri"/>
              </a:rPr>
              <a:t>i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an annual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process focussed on individual business units</a:t>
            </a:r>
            <a:r>
              <a:rPr b="1" lang="en-GB" sz="2000" spc="-1" strike="noStrike">
                <a:solidFill>
                  <a:srgbClr val="000000"/>
                </a:solidFill>
                <a:latin typeface="Calibri"/>
              </a:rPr>
              <a:t>-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Practically there is need to make just in time decisions depending on the situation at hand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i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not flexible enough 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to address day to day issues and is delinked from strategic decision mak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Strategic planning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Calibri"/>
              </a:rPr>
              <a:t>is a record of judgement management already made rather than being a vehicle for identifying and debating the critical decisions</a:t>
            </a:r>
            <a:r>
              <a:rPr b="0" lang="en-GB" sz="2000" spc="-1" strike="noStrike">
                <a:solidFill>
                  <a:srgbClr val="000000"/>
                </a:solidFill>
                <a:latin typeface="Calibri"/>
              </a:rPr>
              <a:t> that the company needs to make to produce superior performan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However, critical decisions have to be made on a continuous basi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601"/>
              </a:spcBef>
              <a:spcAft>
                <a:spcPts val="601"/>
              </a:spcAft>
              <a:buClr>
                <a:srgbClr val="ff0000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Calibri"/>
              </a:rPr>
              <a:t>Secondly, decision making is a process which therefore should be undertaken in a timely and systematic manner to resolve strategic issue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Slide Number Placehold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289C4-B8D0-4341-89A6-0508DA18689E}" type="slidenum">
              <a:rPr b="0" lang="en-US" sz="1200" spc="-1" strike="noStrike">
                <a:solidFill>
                  <a:srgbClr val="898989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tretch/>
        </p:blipFill>
        <p:spPr>
          <a:xfrm>
            <a:off x="7620120" y="0"/>
            <a:ext cx="15238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7T06:51:30Z</dcterms:created>
  <dc:creator>peter.twesigye</dc:creator>
  <dc:description/>
  <dc:language>en-US</dc:language>
  <cp:lastModifiedBy>godfrey.katongole</cp:lastModifiedBy>
  <dcterms:modified xsi:type="dcterms:W3CDTF">2010-07-30T07:17:37Z</dcterms:modified>
  <cp:revision>149</cp:revision>
  <dc:subject/>
  <dc:title>Slide 1</dc:title>
</cp:coreProperties>
</file>