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whoosh.wav" ContentType="audio/x-wav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0"/>
            <a:ext cx="68580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move the slide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ftr" idx="2"/>
          </p:nvPr>
        </p:nvSpPr>
        <p:spPr>
          <a:xfrm>
            <a:off x="-36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 type="sldNum" idx="3"/>
          </p:nvPr>
        </p:nvSpPr>
        <p:spPr>
          <a:xfrm>
            <a:off x="388584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03197-C68C-4039-87CF-1452ACC26A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EAD0E5-2CAE-43F2-97E5-DB34B5F2F80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6200" y="8831160"/>
            <a:ext cx="29718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CB5FA-D39E-40B6-9245-9DE564BB64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04840" y="696960"/>
            <a:ext cx="4649760" cy="348624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416120"/>
            <a:ext cx="50292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9584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7236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21932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9584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7236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79584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72360" y="165276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21932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79584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72360" y="4013640"/>
            <a:ext cx="245340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143000" y="228240"/>
            <a:ext cx="76960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23520" y="401364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2193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23520" y="1652760"/>
            <a:ext cx="371808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219320" y="4013640"/>
            <a:ext cx="7619760" cy="215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8680" y="228600"/>
            <a:ext cx="457200" cy="6477120"/>
          </a:xfrm>
          <a:prstGeom prst="rect">
            <a:avLst/>
          </a:prstGeom>
          <a:solidFill>
            <a:srgbClr val="3366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Line 6"/>
          <p:cNvSpPr/>
          <p:nvPr/>
        </p:nvSpPr>
        <p:spPr>
          <a:xfrm>
            <a:off x="971640" y="2181240"/>
            <a:ext cx="784836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11"/>
          <p:cNvSpPr/>
          <p:nvPr/>
        </p:nvSpPr>
        <p:spPr>
          <a:xfrm>
            <a:off x="328680" y="2300400"/>
            <a:ext cx="457200" cy="181440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3" descr=""/>
          <p:cNvPicPr/>
          <p:nvPr/>
        </p:nvPicPr>
        <p:blipFill>
          <a:blip r:embed="rId2"/>
          <a:stretch/>
        </p:blipFill>
        <p:spPr>
          <a:xfrm>
            <a:off x="0" y="5719680"/>
            <a:ext cx="1295280" cy="1138320"/>
          </a:xfrm>
          <a:prstGeom prst="rect">
            <a:avLst/>
          </a:prstGeom>
          <a:ln w="0">
            <a:noFill/>
          </a:ln>
        </p:spPr>
      </p:pic>
      <p:sp>
        <p:nvSpPr>
          <p:cNvPr id="4" name="Line 16"/>
          <p:cNvSpPr/>
          <p:nvPr/>
        </p:nvSpPr>
        <p:spPr>
          <a:xfrm>
            <a:off x="838080" y="5638680"/>
            <a:ext cx="7925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1219320" y="1676160"/>
            <a:ext cx="761976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447920" y="15998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Line 29"/>
          <p:cNvSpPr/>
          <p:nvPr/>
        </p:nvSpPr>
        <p:spPr>
          <a:xfrm>
            <a:off x="1033560" y="1414440"/>
            <a:ext cx="7848360" cy="0"/>
          </a:xfrm>
          <a:prstGeom prst="line">
            <a:avLst/>
          </a:prstGeom>
          <a:ln w="2844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99ff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6699ff"/>
              </a:buClr>
              <a:buFont typeface="Arial"/>
              <a:buChar char="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6699ff"/>
              </a:buClr>
              <a:buFont typeface="Arial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42"/>
          <p:cNvSpPr/>
          <p:nvPr/>
        </p:nvSpPr>
        <p:spPr>
          <a:xfrm flipV="1">
            <a:off x="-7560" y="0"/>
            <a:ext cx="9151920" cy="719280"/>
          </a:xfrm>
          <a:prstGeom prst="pie">
            <a:avLst/>
          </a:prstGeom>
          <a:gradFill rotWithShape="0">
            <a:gsLst>
              <a:gs pos="0">
                <a:srgbClr val="6699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Garamond"/>
              </a:rPr>
              <a:t>Click to edit the title text format</a:t>
            </a:r>
            <a:endParaRPr b="1" lang="en-US" sz="36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47" name="Rectangle 9"/>
          <p:cNvSpPr/>
          <p:nvPr/>
        </p:nvSpPr>
        <p:spPr>
          <a:xfrm>
            <a:off x="380880" y="228600"/>
            <a:ext cx="457200" cy="4419720"/>
          </a:xfrm>
          <a:prstGeom prst="rect">
            <a:avLst/>
          </a:prstGeom>
          <a:solidFill>
            <a:srgbClr val="3366ff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7"/>
          <p:cNvSpPr/>
          <p:nvPr/>
        </p:nvSpPr>
        <p:spPr>
          <a:xfrm>
            <a:off x="380880" y="1905120"/>
            <a:ext cx="457200" cy="1218960"/>
          </a:xfrm>
          <a:prstGeom prst="rect">
            <a:avLst/>
          </a:prstGeom>
          <a:gradFill rotWithShape="0">
            <a:gsLst>
              <a:gs pos="0">
                <a:srgbClr val="808080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45"/>
          <p:cNvSpPr/>
          <p:nvPr/>
        </p:nvSpPr>
        <p:spPr>
          <a:xfrm>
            <a:off x="1014480" y="6172200"/>
            <a:ext cx="7924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400" y="228600"/>
            <a:ext cx="7696080" cy="548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Garamond"/>
              </a:rPr>
              <a:t>National Water and Sewerage Corporation</a:t>
            </a:r>
            <a:br>
              <a:rPr sz="4000"/>
            </a:br>
            <a:br>
              <a:rPr sz="4000"/>
            </a:br>
            <a:r>
              <a:rPr b="0" lang="en-GB" sz="3600" spc="-1" strike="noStrike">
                <a:solidFill>
                  <a:srgbClr val="0066ff"/>
                </a:solidFill>
                <a:latin typeface="Garamond"/>
              </a:rPr>
              <a:t>Opportunities and Challenges of Serving the Informal Settlements</a:t>
            </a:r>
            <a:br>
              <a:rPr sz="3600"/>
            </a:br>
            <a:br>
              <a:rPr sz="3600"/>
            </a:br>
            <a:r>
              <a:rPr b="0" lang="en-GB" sz="2800" spc="-1" strike="noStrike" u="sng">
                <a:solidFill>
                  <a:srgbClr val="0066ff"/>
                </a:solidFill>
                <a:uFillTx/>
                <a:latin typeface="Garamond"/>
              </a:rPr>
              <a:t>By: Dr. William Muhairwe</a:t>
            </a:r>
            <a:br>
              <a:rPr sz="2800"/>
            </a:br>
            <a:r>
              <a:rPr b="0" lang="en-GB" sz="2800" spc="-1" strike="noStrike" u="sng">
                <a:solidFill>
                  <a:srgbClr val="0066ff"/>
                </a:solidFill>
                <a:uFillTx/>
                <a:latin typeface="Garamond"/>
              </a:rPr>
              <a:t>Managing Director NWSC</a:t>
            </a:r>
            <a:endParaRPr b="1" lang="en-US" sz="2800" spc="-1" strike="noStrike">
              <a:solidFill>
                <a:srgbClr val="0066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1219320" y="1652760"/>
            <a:ext cx="7619760" cy="451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ank you for your Atten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685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66ff"/>
                </a:solidFill>
                <a:latin typeface="Garamond"/>
              </a:rPr>
              <a:t>CONTENT</a:t>
            </a:r>
            <a:endParaRPr b="1" lang="en-US" sz="28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90720" y="990720"/>
            <a:ext cx="777240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Definition of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ituation analysis of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hy Serve the Informal Settl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acro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Garamond"/>
              </a:rPr>
              <a:t>Micro Point of Vi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hallen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Sol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Conclu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Garamond"/>
              </a:rPr>
              <a:t>Way forw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FDFEA-62FD-4A0E-ACCA-845BC84F421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Definition of Informal Settlements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 Uganda, informal settlements are in pockets in the different urban cent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informal settlements are more in the larger towns compared to smaller towns, ranging from 20% - 6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formal settlements are characterized b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ow income popul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High concentration of peo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Squalid dwell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Poor services an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699ff"/>
              </a:buClr>
              <a:buFont typeface="Arial"/>
              <a:buChar char="□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</a:rPr>
              <a:t>limited and unplanned infra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EA0DA2-C412-4DB5-9560-D4E74B2BC2E9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Situation Analysis of Informal Settlements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Water, Reliance o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allow well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unprotected spring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udimental rain harv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For sani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re is poor drainag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hallow pit latrines due to the low water tab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discriminate disposal of solid was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Social Evils such as theft, violence, prostitution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B9030-8DA2-41AD-A2AF-A91E96F1218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Why Serve the Poor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aramond"/>
              </a:rPr>
              <a:t>Macro Point of Vie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Social Responsibil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Political Mandate, PEAP, NDP, Presidents Manifes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Water as a Basic right for Health, in line with MD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aramond"/>
              </a:rPr>
              <a:t>Equity in Service Delive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Slide Number Placehold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725A3-904E-49B4-AF38-D5F5C56245B6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ff"/>
                </a:solidFill>
                <a:latin typeface="Garamond"/>
              </a:rPr>
              <a:t>Why Serve the Poor </a:t>
            </a:r>
            <a:endParaRPr b="1" lang="en-US" sz="40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90360" y="1523880"/>
            <a:ext cx="8040600" cy="472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cro Point of 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Mitigation of the following adverse consequen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Insecurity of installations and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uction in illegal water 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Reduction in  Non Revenue Wa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On the other hand serving the informal settlements h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the following positive attribu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ositive image for the Corpo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The poor are good pay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aramond"/>
              </a:rPr>
              <a:t>Prepaid meters on kiosks results into a collection efficiency of over 10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F4CCB-3503-470F-A14F-06FF568E9F7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Challenges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66680" y="1218960"/>
            <a:ext cx="746784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adequate resources to effect access to the po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Failure to discern between the Rich and Poor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a regulatory framework for services to the poor leading to over pricing and disconnection due to non payment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ack of clear measurable indicators for service to the poor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Poor Physical planning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Transient popul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Limited installation of pre-paid meters because of high cos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75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Garamond"/>
              </a:rPr>
              <a:t>Inappropriate land tenure system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D549C-BC8E-43EB-972D-8AA14E96571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Solutions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914400"/>
            <a:ext cx="746784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Need for an Enabling Policy Frame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Board and Management support to the plight of informal settlement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Establishment of a Dedicated Pro-Poor Unit, with a fully fledged staffing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Geographic targeting of connections (e.g. OBA Project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Use of Yard taps as an alternative to water kiosk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Installation of prepaid meters for public stand pos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Community involvement and participa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Need to have targeted subventions from Government/Donors to bridge the financing Gap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doption and Formulation of SMART pro-poor targets with the utilities policy framework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Adoption of an appropriate Tariff Structure where the poor are subsidized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Slide Number Placeholder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CC26F-8383-4FF6-86A3-9A65DC88BDBD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2282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Garamond"/>
              </a:rPr>
              <a:t>Conclusion </a:t>
            </a:r>
            <a:endParaRPr b="1" lang="en-US" sz="3200" spc="-1" strike="noStrike">
              <a:solidFill>
                <a:srgbClr val="0066ff"/>
              </a:solidFill>
              <a:latin typeface="Garamon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066680" y="1066320"/>
            <a:ext cx="746784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Provision of service to informal settlements requires a multi faceted approach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Garamond"/>
              </a:rPr>
              <a:t>With the rapid urbanization, utilities have no choice but to seek solutions for serving the informal settlements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6699ff"/>
              </a:buClr>
              <a:buFont typeface="Arial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Garamond"/>
              </a:rPr>
              <a:t>There is need for a clear institution framework if informal settlements are to be effectively serv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Remember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0066"/>
                </a:solidFill>
                <a:latin typeface="Garamond"/>
              </a:rPr>
              <a:t>“</a:t>
            </a:r>
            <a:r>
              <a:rPr b="1" i="1" lang="en-US" sz="2000" spc="-1" strike="noStrike">
                <a:solidFill>
                  <a:srgbClr val="ff0066"/>
                </a:solidFill>
                <a:latin typeface="Garamond"/>
              </a:rPr>
              <a:t>be  the change you want to see in the World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Garamond"/>
              </a:rPr>
              <a:t>(Mahatma Gandh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david.isingoma</cp:lastModifiedBy>
  <dcterms:modified xsi:type="dcterms:W3CDTF">2009-10-30T04:50:13Z</dcterms:modified>
  <cp:revision>719</cp:revision>
  <dc:subject/>
  <dc:title>PowerPoint Presentation</dc:title>
</cp:coreProperties>
</file>