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Garamond"/>
              </a:rPr>
              <a:t>Click to move the slide</a:t>
            </a: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930E-3EE6-481A-95D6-F8940DF79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9711-0F3F-4AD9-A6E4-39BC8AE9D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4CDF-6C29-414F-8209-9F81A6DD9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7619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9320" y="4013640"/>
            <a:ext cx="7619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35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9320" y="401364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23520" y="401364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95840" y="165276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2360" y="165276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9320" y="401364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95840" y="401364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2360" y="401364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1652760"/>
            <a:ext cx="76197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76197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371808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3520" y="1652760"/>
            <a:ext cx="371808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23520" y="1652760"/>
            <a:ext cx="371808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19320" y="401364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9320" y="1652760"/>
            <a:ext cx="76197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371808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35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23520" y="401364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235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4013640"/>
            <a:ext cx="7619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7619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19320" y="4013640"/>
            <a:ext cx="7619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35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9320" y="401364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23520" y="401364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95840" y="165276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2360" y="165276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19320" y="401364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95840" y="401364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2360" y="401364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76197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371808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23520" y="1652760"/>
            <a:ext cx="371808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3520" y="1652760"/>
            <a:ext cx="371808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9320" y="401364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371808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35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3520" y="401364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35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4013640"/>
            <a:ext cx="7619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8680" y="228600"/>
            <a:ext cx="457200" cy="6477120"/>
          </a:xfrm>
          <a:prstGeom prst="rect">
            <a:avLst/>
          </a:prstGeom>
          <a:solidFill>
            <a:srgbClr val="336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6"/>
          <p:cNvSpPr/>
          <p:nvPr/>
        </p:nvSpPr>
        <p:spPr>
          <a:xfrm>
            <a:off x="971640" y="2181240"/>
            <a:ext cx="7848360" cy="0"/>
          </a:xfrm>
          <a:prstGeom prst="line">
            <a:avLst/>
          </a:prstGeom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328680" y="2300400"/>
            <a:ext cx="457200" cy="18144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0" y="5719680"/>
            <a:ext cx="1295280" cy="1138320"/>
          </a:xfrm>
          <a:prstGeom prst="rect">
            <a:avLst/>
          </a:prstGeom>
          <a:ln w="0">
            <a:noFill/>
          </a:ln>
        </p:spPr>
      </p:pic>
      <p:sp>
        <p:nvSpPr>
          <p:cNvPr id="4" name="Line 16"/>
          <p:cNvSpPr/>
          <p:nvPr/>
        </p:nvSpPr>
        <p:spPr>
          <a:xfrm>
            <a:off x="838080" y="563868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219320" y="16761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447920" y="1599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9"/>
          <p:cNvSpPr/>
          <p:nvPr/>
        </p:nvSpPr>
        <p:spPr>
          <a:xfrm>
            <a:off x="1033560" y="1414440"/>
            <a:ext cx="7848360" cy="0"/>
          </a:xfrm>
          <a:prstGeom prst="line">
            <a:avLst/>
          </a:prstGeom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19320" y="1652760"/>
            <a:ext cx="76197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42"/>
          <p:cNvSpPr/>
          <p:nvPr/>
        </p:nvSpPr>
        <p:spPr>
          <a:xfrm flipV="1">
            <a:off x="-7560" y="0"/>
            <a:ext cx="9151920" cy="71928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380880" y="228600"/>
            <a:ext cx="457200" cy="4419720"/>
          </a:xfrm>
          <a:prstGeom prst="rect">
            <a:avLst/>
          </a:prstGeom>
          <a:solidFill>
            <a:srgbClr val="3366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7"/>
          <p:cNvSpPr/>
          <p:nvPr/>
        </p:nvSpPr>
        <p:spPr>
          <a:xfrm>
            <a:off x="380880" y="1905120"/>
            <a:ext cx="457200" cy="12189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5"/>
          <p:cNvSpPr/>
          <p:nvPr/>
        </p:nvSpPr>
        <p:spPr>
          <a:xfrm>
            <a:off x="1014480" y="61722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Garamond"/>
              </a:rPr>
              <a:t>National Water and Sewerage Corporation</a:t>
            </a: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0066ff"/>
                </a:solidFill>
                <a:latin typeface="Garamond"/>
              </a:rPr>
              <a:t>Opportunities and Challenges of Serving the Informal Settlements</a:t>
            </a:r>
            <a:br>
              <a:rPr sz="3600"/>
            </a:br>
            <a:br>
              <a:rPr sz="3600"/>
            </a:br>
            <a:r>
              <a:rPr b="0" lang="en-GB" sz="2800" spc="-1" strike="noStrike" u="sng">
                <a:solidFill>
                  <a:srgbClr val="0066ff"/>
                </a:solidFill>
                <a:uFillTx/>
                <a:latin typeface="Garamond"/>
              </a:rPr>
              <a:t>By: Dr. William Muhairwe</a:t>
            </a:r>
            <a:br>
              <a:rPr sz="2800"/>
            </a:br>
            <a:r>
              <a:rPr b="0" lang="en-GB" sz="2800" spc="-1" strike="noStrike" u="sng">
                <a:solidFill>
                  <a:srgbClr val="0066ff"/>
                </a:solidFill>
                <a:uFillTx/>
                <a:latin typeface="Garamond"/>
              </a:rPr>
              <a:t>Managing Director NWSC</a:t>
            </a:r>
            <a:endParaRPr b="1" lang="en-US" sz="2800" spc="-1" strike="noStrike">
              <a:solidFill>
                <a:srgbClr val="0066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219320" y="1652760"/>
            <a:ext cx="761976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Garamond"/>
              </a:rPr>
              <a:t>CONTENT</a:t>
            </a:r>
            <a:endParaRPr b="1" lang="en-US" sz="28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Definition of Informal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Situation analysis of Informal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Why Serve the Informal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Macro point of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Micro Point of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Concl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Way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7D11-CF66-470C-85A2-F0240F1C11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aramond"/>
              </a:rPr>
              <a:t>Definition of Informal Settlements </a:t>
            </a:r>
            <a:endParaRPr b="1" lang="en-US" sz="40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80406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Uganda, informal settlements are in pockets in the different urban cent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informal settlements are more in the larger towns compared to smaller towns, ranging from 20% - 6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formal settlements are characteriz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ow income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igh concentration of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qualid dwel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oor service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mited and unplanned infra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7C65-6C98-4FC4-AB22-9933FA5F646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aramond"/>
              </a:rPr>
              <a:t>Situation Analysis of Informal Settlements </a:t>
            </a:r>
            <a:endParaRPr b="1" lang="en-US" sz="40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80406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Water, Reliance 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hallow we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protected spring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udimental rain harv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sani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re is poor draina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hallow pit latrines due to the low water tab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discriminate disposal of solid w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cial Evils such as theft, violence, prostitution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2500-6C5E-4D4C-B0A2-1EF869F107D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aramond"/>
              </a:rPr>
              <a:t>Why Serve the Poor </a:t>
            </a:r>
            <a:endParaRPr b="1" lang="en-US" sz="40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80406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acro Point of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ocial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olitical Mandate, PEAP, NDP, Presidents Manife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ater as a Basic right for Health, in line with MD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quity in Service Deli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54E5-3013-4AFB-B731-D9D48544F80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aramond"/>
              </a:rPr>
              <a:t>Why Serve the Poor </a:t>
            </a:r>
            <a:endParaRPr b="1" lang="en-US" sz="40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80406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icro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itigation of the following adverse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security of installations and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duction in illegal water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duction in  Non Revenue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the other hand serving the informal settlements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following positiv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ositive image for the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poor are good 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epaid meters on kiosks results into a collection efficiency of over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FE9C-842F-4FEA-AC20-E63197885CF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Garamond"/>
              </a:rPr>
              <a:t>Challenges </a:t>
            </a:r>
            <a:endParaRPr b="1" lang="en-US" sz="32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Lack of adequate resources to effect access to the po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Failure to discern between the Rich and Po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Lack of a regulatory framework for services to the poor leading to over pricing and disconnection due to non paym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Lack of clear measurable indicators for service to the po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Poor Physical plan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Transient popul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Limited installation of pre-paid meters because of high co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Inappropriate land tenure syste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2153-0F82-4590-AB0E-8DAB87F2105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Garamond"/>
              </a:rPr>
              <a:t>Solutions </a:t>
            </a:r>
            <a:endParaRPr b="1" lang="en-US" sz="32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914400"/>
            <a:ext cx="7467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Need for an Enabling Policy Framewor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Board and Management support to the plight of informal settlem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Establishment of a Dedicated Pro-Poor Unit, with a fully fledged staff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Geographic targeting of connections (e.g. OBA Projec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Use of Yard taps as an alternative to water kiosk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Installation of prepaid meters for public stand pos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Community involvement and particip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Need to have targeted subventions from Government/Donors to bridge the financing Ga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Adoption and Formulation of SMART pro-poor targets with the utilities policy framewor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Adoption of an appropriate Tariff Structure where the poor are subsidized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5FFB-EED1-4EEC-908E-C64A4FE1245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Garamond"/>
              </a:rPr>
              <a:t>Conclusion </a:t>
            </a:r>
            <a:endParaRPr b="1" lang="en-US" sz="32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Provision of service to informal settlements requires a multi faceted approach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With the rapid urbanization, utilities have no choice but to seek solutions for serving the informal settle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re is need for a clear institution framework if informal settlements are to be effectively 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Rememb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Garamond"/>
              </a:rPr>
              <a:t>“</a:t>
            </a:r>
            <a:r>
              <a:rPr b="1" i="1" lang="en-US" sz="2000" spc="-1" strike="noStrike">
                <a:solidFill>
                  <a:srgbClr val="ff0066"/>
                </a:solidFill>
                <a:latin typeface="Garamond"/>
              </a:rPr>
              <a:t>be  the change you want to see in the Worl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(Mahatma Gandh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.isingoma</cp:lastModifiedBy>
  <dcterms:modified xsi:type="dcterms:W3CDTF">2009-10-30T04:50:13Z</dcterms:modified>
  <cp:revision>719</cp:revision>
  <dc:subject/>
  <dc:title>PowerPoint Presentation</dc:title>
</cp:coreProperties>
</file>