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jpeg" ContentType="image/jpeg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notesMasterIdLst>
    <p:notesMasterId r:id="rId12"/>
  </p:notes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notesMaster" Target="notesMasters/notesMaster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1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 type="dt" idx="31"/>
          </p:nvPr>
        </p:nvSpPr>
        <p:spPr>
          <a:xfrm>
            <a:off x="3898800" y="0"/>
            <a:ext cx="29815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 type="sldImg"/>
          </p:nvPr>
        </p:nvSpPr>
        <p:spPr>
          <a:xfrm>
            <a:off x="1116000" y="698400"/>
            <a:ext cx="464976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 type="body"/>
          </p:nvPr>
        </p:nvSpPr>
        <p:spPr>
          <a:xfrm>
            <a:off x="687240" y="4416120"/>
            <a:ext cx="5507280" cy="41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5"/>
          <p:cNvSpPr>
            <a:spLocks noGrp="1"/>
          </p:cNvSpPr>
          <p:nvPr>
            <p:ph type="ftr" idx="32"/>
          </p:nvPr>
        </p:nvSpPr>
        <p:spPr>
          <a:xfrm>
            <a:off x="-360" y="8831160"/>
            <a:ext cx="298116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6"/>
          <p:cNvSpPr>
            <a:spLocks noGrp="1"/>
          </p:cNvSpPr>
          <p:nvPr>
            <p:ph type="sldNum" idx="33"/>
          </p:nvPr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18DCF-4728-40DA-8368-1D730270EE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16000" y="69840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7240" y="4416120"/>
            <a:ext cx="5507280" cy="4181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Slide Number Placeholder 3"/>
          <p:cNvSpPr/>
          <p:nvPr/>
        </p:nvSpPr>
        <p:spPr>
          <a:xfrm>
            <a:off x="3898800" y="8831160"/>
            <a:ext cx="29815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00BF0-ED85-421F-977A-841E7E6D2A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E17EF-C594-43AE-9765-DA4E555C91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3247-BA34-4427-B3B7-11C6C4B03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399427-B55E-40AC-AC0E-53FB4931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834D3E1-03DE-4E43-8683-A10D86690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AB98F5-2D99-488E-BDAA-BA97BB493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6B74C5-DDE9-4E2B-B5B0-4BC8D421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9E3B2E-EABF-4AC7-943C-B466B43A0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E1A9EF-A4B5-4284-9823-66EF556F1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5E7CDA-26CC-4940-8B13-EB3CC8D5F5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86827D-EB4D-4EC5-951A-1120CEFBB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DE2B9C-3A41-48E9-B2CC-7415DEEB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779E0B-CAFC-4A5E-A511-07B5D05E56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28886-C837-47A3-A53A-0B56FCF1B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08AADB-BA8D-4684-B7C5-53B78A880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4D678D-C318-413B-9E73-C67CAFA0A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70B76B-D355-4876-B2BE-FD36150DF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0D3FB-4752-41D6-96AF-8EC6662A48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F33FE5-0058-4759-B479-D19DA98A83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19DBA98-76AF-4C26-8AE1-183EF3BCD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1C7F8D-7863-4E74-B6ED-B107D466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FD90A-AF42-4B23-9012-9D55B0DC3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B03720D-6244-4052-AA03-ECF7A15F7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E3E88-61F2-4112-BE4B-4466C9E944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AEB7-3977-4DB3-8D00-2BECDF6AC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0B2A38-0820-4599-A13E-AE9B8B4AFA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18EAA-3591-4D4D-A9F9-1CF4AA9B7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AF0B-3FDC-4F93-A020-89CAA213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F71F46-68AD-4995-89F1-3F399D3E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DB9F3-9CDF-4D3A-81A3-7B5B3CC23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6C2B9-A52D-4B52-8213-F2B7403C3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F1E1D-E420-4105-B2F6-CB7932415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BB751-C9AB-46AF-928B-77B6C34EB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696C-FA19-4CB8-BC0A-420FA2809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72FB9-5738-41E8-8C47-BB6BFF3FB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7427F-3754-49C6-835E-86428B447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AD05D-0480-4C01-BFF2-F53EF218B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BCF6D-2FD9-45D5-8A5F-C31914210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08DE-7681-427A-A880-FE5348685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31CF1B-3356-4ABD-9427-2BBD0A527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CDC8E9-EBD4-4DCC-8C8C-E266DFCB9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CC545F-34CB-47DB-84D7-4969DDC1A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CC109B-7BAD-445B-BA08-473A96D0D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692921-5FA7-4089-94D6-2A0CBE5A9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7783B-E930-4CF8-B4FC-B3BF38DD9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40A884-8F7C-4A12-B4C0-E1BBE418A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8B7E99-E7ED-4B44-B224-9316D12DA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B3B6BD-98ED-48D9-8FD4-2624F4440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8615B3-9BDE-4A96-B0A3-42E51EEDB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49405F-AF39-4784-B8AD-A3D5F2C27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C3903C-6D26-48D4-9A0D-CE313A18E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74A0E-D8F7-47D2-AE03-F976A036A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C85C1-DBA2-4507-82D7-3EA371B9D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526C20-52C3-465B-8B75-5542F8673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7FA868-DB97-4C2B-A88E-8687E9698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4EE5-9498-47CE-B0E8-89378A093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28D037-1E7E-4788-8A82-00277EA16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A5032-E723-4508-A0AA-31D54B67C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52A558-80B5-48E3-B330-D6B35168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E64E2B-7889-454A-90D2-8A28629EA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EBB0B4-90D6-4C18-B500-9BA262A2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25063-528D-46F6-9E63-393807AD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272A80-6981-4E70-A0E5-C3BDDF179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78173E-D399-46B2-8C56-996D92F61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1F62E4-8E08-4FE3-BF52-77B9BC799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E9C756-EAA9-417F-9356-0FDEC605B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AB45D-9628-490A-8F64-00AFDFDA6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B97B8D-060F-40FF-9052-1935C2801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31A64-341F-42F8-AF77-170F901C6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D388DA-F147-496B-A155-D817ABBB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5175E-C5B6-453E-B770-939A50558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364B1-64FD-4056-9558-1C31FE972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8D308-27E0-48E0-B006-2BC7D8717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86C6F7-FB97-4356-8E59-F7D9F6B0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EC35A-ED9F-4026-85E2-FCE54E0A2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03D35A-5BDC-426A-8364-87F3CAAD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659882-522A-495D-97B5-7040A9AE7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4FC3-71CE-4BCD-9A9C-F3B62F4D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53E756-318A-454C-A1AC-0289DC79F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B2EE1B-8BBE-49ED-9E33-6625CCD07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CB29F1-047E-4C23-8904-3ECCA9047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32BE96D-4A45-4A5F-8BBC-C045CE11B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0711A0-4712-4F0C-8A54-80876D4F1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2B1278-9D82-4C72-B839-68424359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0F70C2-94D2-4C16-9DC2-1A903C1AF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892A8A-E89A-4D73-9CE7-EF3CBA933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C2775-185F-4CB4-9BA1-DD64858C6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38C5A6-454E-4D88-9D7F-25768B7F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2945C-18E3-4004-9CE0-6540583C68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3FEABC-48FD-44E1-9406-60DD3B28E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91E5E2-214E-49C9-8EAE-1BC5DC91C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692A493-8AD7-48DE-B623-4F971270C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D6CF97-0A5C-467F-9C99-5475F6EC2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39788-46E4-445D-AFAA-E2C76B207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CA6306-56A5-4C13-987A-C0FB830C2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D0295-BD60-4321-BF13-38C74DE16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969CB48-2C34-49FA-AB9C-05BC1B6E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BD0279-9539-4D7B-BF07-B9319DB47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5C9A26-7B3E-4A67-B87C-CDBCA53DA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F3614-D4C2-4FA6-858F-95CF9FD5C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0FE30F-ADA5-4B0D-8E38-1E5750151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5FFDF-7189-4C99-B54D-4160F79734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0B423C-B3F4-40B7-8336-CCE305684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36649-A1C0-49DF-B2A9-06399808E7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0F4CB-1D19-4ED4-B8CF-2F9CA4F29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A79A6D-2203-43E7-B171-0A2D6A58E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5A4A933-6EF1-4804-BDE8-E01C9E1E0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69AE2-A321-4491-8121-2BA8FA54C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F0DFFB9-11F8-4B45-886C-6AC3BB1CF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A93AE8-F735-4CA1-8523-5A753B20D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14F4-17BA-44EF-9540-198AF60C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A69BC8-31AD-4F4D-89FA-7C2358F69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CF4D8E-6EBB-4A91-B46D-A66D3BA5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8EF319-E11F-4553-B639-FB0973888F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68B1DF-A335-459E-B1D7-5993DE2F8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8C817-5D34-4310-A1AD-15385D681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60E691-E614-4E5C-9E47-DEB04FFC3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11467-0ED3-4A82-BC0F-D96A66C74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9B3497-9617-46AA-962F-B7283FA3C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179371-F09F-4007-BCF4-31D28ED95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AC52BA-5E05-47C7-B594-DCAF02C54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8435-E9B5-4429-83FF-65344456F8A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7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426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traight Connector 14"/>
          <p:cNvSpPr/>
          <p:nvPr/>
        </p:nvSpPr>
        <p:spPr>
          <a:xfrm>
            <a:off x="457200" y="1447920"/>
            <a:ext cx="82296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577BB-1703-4E61-9FFB-8AB136DAAC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48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64" descr="NWSC Logo"/>
          <p:cNvPicPr/>
          <p:nvPr/>
        </p:nvPicPr>
        <p:blipFill>
          <a:blip r:embed="rId4"/>
          <a:stretch/>
        </p:blipFill>
        <p:spPr>
          <a:xfrm>
            <a:off x="3505320" y="0"/>
            <a:ext cx="1127160" cy="801720"/>
          </a:xfrm>
          <a:prstGeom prst="rect">
            <a:avLst/>
          </a:prstGeom>
          <a:ln w="0">
            <a:noFill/>
          </a:ln>
        </p:spPr>
      </p:pic>
      <p:sp>
        <p:nvSpPr>
          <p:cNvPr id="52" name="Straight Connector 15"/>
          <p:cNvSpPr/>
          <p:nvPr/>
        </p:nvSpPr>
        <p:spPr>
          <a:xfrm>
            <a:off x="609480" y="3808440"/>
            <a:ext cx="792504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9D187-1420-4E8F-B3BC-F8B58A8236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96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164" descr="NWSC Logo"/>
          <p:cNvPicPr/>
          <p:nvPr/>
        </p:nvPicPr>
        <p:blipFill>
          <a:blip r:embed="rId4"/>
          <a:stretch/>
        </p:blipFill>
        <p:spPr>
          <a:xfrm>
            <a:off x="7645320" y="5791320"/>
            <a:ext cx="1498680" cy="1066680"/>
          </a:xfrm>
          <a:prstGeom prst="rect">
            <a:avLst/>
          </a:prstGeom>
          <a:ln w="0">
            <a:noFill/>
          </a:ln>
        </p:spPr>
      </p:pic>
      <p:sp>
        <p:nvSpPr>
          <p:cNvPr id="100" name="Straight Connector 15"/>
          <p:cNvSpPr/>
          <p:nvPr/>
        </p:nvSpPr>
        <p:spPr>
          <a:xfrm>
            <a:off x="457200" y="1447920"/>
            <a:ext cx="82296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BC1E5-9E5E-40BB-BC9C-985AFDBF4CC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144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Straight Connector 14"/>
          <p:cNvSpPr/>
          <p:nvPr/>
        </p:nvSpPr>
        <p:spPr>
          <a:xfrm>
            <a:off x="457200" y="1447920"/>
            <a:ext cx="82296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16A6F-24D8-48DD-A513-6A043BAB170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191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traight Connector 14"/>
          <p:cNvSpPr/>
          <p:nvPr/>
        </p:nvSpPr>
        <p:spPr>
          <a:xfrm>
            <a:off x="457200" y="1447920"/>
            <a:ext cx="82296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83AF-2859-4CCD-B78B-15BECF1AE1C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238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traight Connector 14"/>
          <p:cNvSpPr/>
          <p:nvPr/>
        </p:nvSpPr>
        <p:spPr>
          <a:xfrm>
            <a:off x="457200" y="1447920"/>
            <a:ext cx="82296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25994-F7BE-4A85-9B23-44C2C72D448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285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Straight Connector 14"/>
          <p:cNvSpPr/>
          <p:nvPr/>
        </p:nvSpPr>
        <p:spPr>
          <a:xfrm>
            <a:off x="457200" y="1447920"/>
            <a:ext cx="82296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7FEE-FB04-44D0-95A2-1BEFA056E5D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0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331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332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Straight Connector 14"/>
          <p:cNvSpPr/>
          <p:nvPr/>
        </p:nvSpPr>
        <p:spPr>
          <a:xfrm>
            <a:off x="457200" y="1447920"/>
            <a:ext cx="82296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1028D-98BB-4C4E-A331-4989CFDC288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7" descr="bc_pms"/>
          <p:cNvPicPr/>
          <p:nvPr/>
        </p:nvPicPr>
        <p:blipFill>
          <a:blip r:embed="rId2"/>
          <a:stretch/>
        </p:blipFill>
        <p:spPr>
          <a:xfrm>
            <a:off x="0" y="0"/>
            <a:ext cx="1542960" cy="5335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" descr="C:\Documents and Settings\mugishj\My Documents\My Pictures\MTN Logo World Cup.JPG"/>
          <p:cNvPicPr/>
          <p:nvPr/>
        </p:nvPicPr>
        <p:blipFill>
          <a:blip r:embed="rId3"/>
          <a:stretch/>
        </p:blipFill>
        <p:spPr>
          <a:xfrm>
            <a:off x="7543800" y="0"/>
            <a:ext cx="1450800" cy="868320"/>
          </a:xfrm>
          <a:prstGeom prst="rect">
            <a:avLst/>
          </a:prstGeom>
          <a:ln w="0">
            <a:noFill/>
          </a:ln>
        </p:spPr>
      </p:pic>
      <p:sp>
        <p:nvSpPr>
          <p:cNvPr id="379" name="Line 15"/>
          <p:cNvSpPr/>
          <p:nvPr/>
        </p:nvSpPr>
        <p:spPr>
          <a:xfrm>
            <a:off x="1905120" y="6248520"/>
            <a:ext cx="678168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16"/>
          <p:cNvSpPr/>
          <p:nvPr/>
        </p:nvSpPr>
        <p:spPr>
          <a:xfrm>
            <a:off x="457200" y="6248520"/>
            <a:ext cx="533520" cy="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 Box 17"/>
          <p:cNvSpPr/>
          <p:nvPr/>
        </p:nvSpPr>
        <p:spPr>
          <a:xfrm>
            <a:off x="990720" y="612468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WS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Straight Connector 14"/>
          <p:cNvSpPr/>
          <p:nvPr/>
        </p:nvSpPr>
        <p:spPr>
          <a:xfrm>
            <a:off x="457200" y="1447920"/>
            <a:ext cx="8229600" cy="144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2546B-D39D-4E9C-9F38-9720CCA22A7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ritish Council Management For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ednesdays 8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ctober 2008  Serena Hotel Kamp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70c0"/>
                </a:solidFill>
                <a:latin typeface="Arial"/>
              </a:rPr>
              <a:t>By: Dr. William T Muhairw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ALENT MANAGEMENT</a:t>
            </a:r>
            <a:br>
              <a:rPr sz="4400"/>
            </a:b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GB" sz="3600" spc="-1" strike="noStrike">
                <a:solidFill>
                  <a:srgbClr val="000000"/>
                </a:solidFill>
                <a:latin typeface="Arial"/>
              </a:rPr>
              <a:t>What does it take to get to the Top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at does it take to get to the To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oint of view of NWSC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nner desire &amp; conviction to get to the top – visions &amp; dreams are stronger &amp; shap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tar performance is cardinal &amp; at the heart of everything - Know your work inside-out &amp; be notic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erseverance – keep focused on your goal/ambi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he skills/intuition to “sniff” for and take opportun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otal commitment  - work hard &amp; work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Have wide &amp; good network of contacts </a:t>
            </a: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(not  technical know who but strategic know who)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– </a:t>
            </a: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cant get to the top on your  ow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ersonality of credibility &amp; accountability – </a:t>
            </a: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your actions today will be judged on you tomorrow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Qualification and know who can get you so far but not to the t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Being proactive &amp; positive minded - acting &amp; thinking positively and always being one step a he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Slide Number Placeholder 4"/>
          <p:cNvSpPr/>
          <p:nvPr/>
        </p:nvSpPr>
        <p:spPr>
          <a:xfrm>
            <a:off x="66294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0D65C-C184-420F-AC92-1CB98543FB2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at makes people leaders?</a:t>
            </a:r>
            <a:br>
              <a:rPr sz="3600"/>
            </a:br>
            <a:r>
              <a:rPr b="1" i="1" lang="en-GB" sz="36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GB" sz="2000" spc="-1" strike="noStrike">
                <a:solidFill>
                  <a:srgbClr val="c00000"/>
                </a:solidFill>
                <a:latin typeface="Arial Narrow"/>
              </a:rPr>
              <a:t>What do we look for when choosing those to le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he emotional intellig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elf awareness –recognise &amp; understand your moods, emotions &amp; their effect on oth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elf regulation –control or redirect disruptive impulses &amp; mood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otivations – passion to work for a reason that goes beyond money or statu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Empathy – understand the people &amp; treating them according to their emotional re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ocial skill – managing relationships &amp; networ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Q &amp;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echnical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 skills are entry level requirements - you can have the best training in the world, an incisive, analytical mind &amp;  an endless supply of smart ide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but  wont make it to the top if you don’t have the emotional intelligence –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ETHICAL SM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Slide Number Placeholder 4"/>
          <p:cNvSpPr/>
          <p:nvPr/>
        </p:nvSpPr>
        <p:spPr>
          <a:xfrm>
            <a:off x="66294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1012A-59B7-4E90-9002-75AD60C793F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at makes people leaders?</a:t>
            </a:r>
            <a:br>
              <a:rPr sz="2800"/>
            </a:b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n-GB" sz="2000" spc="-1" strike="noStrike">
                <a:solidFill>
                  <a:srgbClr val="c00000"/>
                </a:solidFill>
                <a:latin typeface="Arial Narrow"/>
              </a:rPr>
              <a:t>What do we look for when choosing those to lead  - cont´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dditional required qu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Selectively show weaknesses- expose some vulnerability &amp; reveal their approachability &amp; humanit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ely heavily on intuition to gauge appropriate timing &amp; course of action 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– collect &amp; interpret information helps to know when &amp; how to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Manage with empathy – giving employees what they need rather than what they want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Reveal their differences - </a:t>
            </a: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capitalise on what is unique about themselves &amp; those they lead and know when to apply them, e.g. when to be humorous &amp; angry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Slide Number Placeholder 4"/>
          <p:cNvSpPr/>
          <p:nvPr/>
        </p:nvSpPr>
        <p:spPr>
          <a:xfrm>
            <a:off x="6705720" y="6095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1B784-10FA-4196-9187-C0F0B4B79F2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So what does it take to be the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457200" y="15699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70c0"/>
                </a:solidFill>
                <a:latin typeface="Arial Narrow"/>
              </a:rPr>
              <a:t>Just Be Brilli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 Narrow"/>
              </a:rPr>
              <a:t>Four characteristics</a:t>
            </a: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Positive action – be positive always (don’t say I will try- say I will do it!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Break out of limiting beliefs - step outside the comfort zone (speed, teamwork &amp; fu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hink differently – you cant solve your problems with the same thinking that caused them </a:t>
            </a: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(Einstein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bility to manage st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2" descr=""/>
          <p:cNvPicPr/>
          <p:nvPr/>
        </p:nvPicPr>
        <p:blipFill>
          <a:blip r:embed="rId1"/>
          <a:stretch/>
        </p:blipFill>
        <p:spPr>
          <a:xfrm>
            <a:off x="6172200" y="762120"/>
            <a:ext cx="1857240" cy="1876320"/>
          </a:xfrm>
          <a:prstGeom prst="rect">
            <a:avLst/>
          </a:prstGeom>
          <a:ln w="0">
            <a:noFill/>
          </a:ln>
        </p:spPr>
      </p:pic>
      <p:sp>
        <p:nvSpPr>
          <p:cNvPr id="523" name="Slide Number Placeholder 5"/>
          <p:cNvSpPr/>
          <p:nvPr/>
        </p:nvSpPr>
        <p:spPr>
          <a:xfrm>
            <a:off x="66294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0EEF-0D76-48B1-8D03-D28F62CBA63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Our lives improve only when we take chances  –  and the first &amp; most difficult risk we can take is to be honest with ours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Walter Anders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acts do not cease to exist because they are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Arial Narrow"/>
              </a:rPr>
              <a:t>Aldous Huxle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6000" spc="-1" strike="noStrike">
                <a:solidFill>
                  <a:srgbClr val="0070c0"/>
                </a:solidFill>
                <a:latin typeface="Arial Narrow"/>
              </a:rPr>
              <a:t>Thank You!!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4"/>
          <p:cNvSpPr/>
          <p:nvPr/>
        </p:nvSpPr>
        <p:spPr>
          <a:xfrm>
            <a:off x="6705720" y="609588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B849C-A887-4D83-A549-C9C24D52317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at is talent managemen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spcAft>
                <a:spcPts val="1800"/>
              </a:spcAft>
              <a:buClr>
                <a:srgbClr val="3333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A dynamic, ongoing process of systematically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Narrow"/>
              </a:rPr>
              <a:t>identifying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,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Narrow"/>
              </a:rPr>
              <a:t>assessing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 Narrow"/>
              </a:rPr>
              <a:t>developing </a:t>
            </a: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alent for future critical roles to ensure continuity and effective organisational performance. </a:t>
            </a:r>
            <a:r>
              <a:rPr b="0" i="1" lang="en-GB" sz="2400" spc="-1" strike="noStrike">
                <a:solidFill>
                  <a:srgbClr val="000000"/>
                </a:solidFill>
                <a:latin typeface="Arial Narrow"/>
              </a:rPr>
              <a:t>(John D Heldk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spcAft>
                <a:spcPts val="1800"/>
              </a:spcAft>
              <a:buClr>
                <a:srgbClr val="333399"/>
              </a:buClr>
              <a:buFont typeface="Arial Narrow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The Bible defines talent management in Mathew 25 : 14-30 -  the parable of the 3 servant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4"/>
          <p:cNvSpPr/>
          <p:nvPr/>
        </p:nvSpPr>
        <p:spPr>
          <a:xfrm>
            <a:off x="66294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F84B4-E814-4EF0-92A9-ACE4F9732B0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y would you want to be at the To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5" name="Picture 3" descr="C:\Documents and Settings\mahmood.lutaaya\Local Settings\Temporary Internet Files\Content.IE5\Z7XXPXLU\j0425040[1].wmf"/>
          <p:cNvPicPr/>
          <p:nvPr/>
        </p:nvPicPr>
        <p:blipFill>
          <a:blip r:embed="rId1"/>
          <a:stretch/>
        </p:blipFill>
        <p:spPr>
          <a:xfrm>
            <a:off x="3352680" y="2630520"/>
            <a:ext cx="2971800" cy="384660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3" descr=""/>
          <p:cNvPicPr/>
          <p:nvPr/>
        </p:nvPicPr>
        <p:blipFill>
          <a:blip r:embed="rId2"/>
          <a:stretch/>
        </p:blipFill>
        <p:spPr>
          <a:xfrm>
            <a:off x="6477120" y="152388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" descr="C:\Documents and Settings\mahmood.lutaaya\My Documents\NWSC\RME\Presentation\talent management\bld158sh.jpg"/>
          <p:cNvPicPr/>
          <p:nvPr/>
        </p:nvPicPr>
        <p:blipFill>
          <a:blip r:embed="rId3"/>
          <a:stretch/>
        </p:blipFill>
        <p:spPr>
          <a:xfrm>
            <a:off x="228600" y="1555920"/>
            <a:ext cx="3068640" cy="2406600"/>
          </a:xfrm>
          <a:prstGeom prst="rect">
            <a:avLst/>
          </a:prstGeom>
          <a:ln w="0">
            <a:noFill/>
          </a:ln>
        </p:spPr>
      </p:pic>
      <p:sp>
        <p:nvSpPr>
          <p:cNvPr id="488" name="Slide Number Placeholder 7"/>
          <p:cNvSpPr/>
          <p:nvPr/>
        </p:nvSpPr>
        <p:spPr>
          <a:xfrm>
            <a:off x="6629400" y="6076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C3580-CF71-4BF6-98EF-F9A9CE55E05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y would you want to be at the Top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Big sala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Get ideas implemen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resti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o ste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Be the b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mpress colleagues /opposite s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atisfy parents´ e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4"/>
          <p:cNvSpPr/>
          <p:nvPr/>
        </p:nvSpPr>
        <p:spPr>
          <a:xfrm>
            <a:off x="66294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1F9F2-6A9B-41E9-8B6C-D668548A4693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y would anyone want to be led by y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Picture 5" descr=""/>
          <p:cNvPicPr/>
          <p:nvPr/>
        </p:nvPicPr>
        <p:blipFill>
          <a:blip r:embed="rId1"/>
          <a:stretch/>
        </p:blipFill>
        <p:spPr>
          <a:xfrm>
            <a:off x="3833640" y="2971800"/>
            <a:ext cx="4548240" cy="281952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6" descr=""/>
          <p:cNvPicPr/>
          <p:nvPr/>
        </p:nvPicPr>
        <p:blipFill>
          <a:blip r:embed="rId2"/>
          <a:stretch/>
        </p:blipFill>
        <p:spPr>
          <a:xfrm>
            <a:off x="380880" y="1523880"/>
            <a:ext cx="3859200" cy="2667240"/>
          </a:xfrm>
          <a:prstGeom prst="rect">
            <a:avLst/>
          </a:prstGeom>
          <a:ln w="0">
            <a:noFill/>
          </a:ln>
        </p:spPr>
      </p:pic>
      <p:sp>
        <p:nvSpPr>
          <p:cNvPr id="496" name="Slide Number Placeholder 9"/>
          <p:cNvSpPr/>
          <p:nvPr/>
        </p:nvSpPr>
        <p:spPr>
          <a:xfrm>
            <a:off x="66294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99855-156D-4C9D-9CC1-BFB356393DF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y would anyone want to be led by you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3352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Is it because you 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Handsome/beautiful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Outgoing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olitically connec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ocially connecte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Have the relevant experienc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Have the right qualific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Narrow"/>
              </a:rPr>
              <a:t>Do you capture the hearts, the minds &amp; souls!!!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Slide Number Placeholder 4"/>
          <p:cNvSpPr/>
          <p:nvPr/>
        </p:nvSpPr>
        <p:spPr>
          <a:xfrm>
            <a:off x="66294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9FA92-D5BE-4772-9C64-4847A399C8D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What motivates people to be at the Top/to be leader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4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00"/>
                </a:solidFill>
                <a:latin typeface="Arial Narrow"/>
              </a:rPr>
              <a:t>Literature re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Inborn – self satisfaction (long history of leadership positions – class monitor, prefect, Head prefect, team leader)- people magne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Desire to ignite/inspire people, -have vision, strategies &amp; powerful ideas you wish to communicat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Good working environ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Monetary benefi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Reputation of the organis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Good career development  prosp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Slide Number Placeholder 4"/>
          <p:cNvSpPr/>
          <p:nvPr/>
        </p:nvSpPr>
        <p:spPr>
          <a:xfrm>
            <a:off x="66294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1916B-DF65-456B-BB56-F21220811A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at  do you think it takes to get to the Top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36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05" name="Picture 2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809880" cy="4421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" descr=""/>
          <p:cNvPicPr/>
          <p:nvPr/>
        </p:nvPicPr>
        <p:blipFill>
          <a:blip r:embed="rId2"/>
          <a:stretch/>
        </p:blipFill>
        <p:spPr>
          <a:xfrm>
            <a:off x="5715000" y="1955880"/>
            <a:ext cx="3048120" cy="3835440"/>
          </a:xfrm>
          <a:prstGeom prst="rect">
            <a:avLst/>
          </a:prstGeom>
          <a:ln w="0">
            <a:noFill/>
          </a:ln>
        </p:spPr>
      </p:pic>
      <p:sp>
        <p:nvSpPr>
          <p:cNvPr id="507" name="Slide Number Placeholder 6"/>
          <p:cNvSpPr/>
          <p:nvPr/>
        </p:nvSpPr>
        <p:spPr>
          <a:xfrm>
            <a:off x="6629400" y="60768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6E4A4-7A5D-4737-AA7A-281190AF4D3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 Narrow"/>
              </a:rPr>
              <a:t>What  do you think it takes to get to the Top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Qualification – MBA/Ph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Experience – long years of service ( 5 , 10 20 y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Appearance/packaging – build-up, beau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Social connections – Relations/tribal/relig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Political connections – pa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Narrow"/>
              </a:rPr>
              <a:t>Technical connections – sharing the same profession as the appointing offic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199"/>
              </a:spcBef>
              <a:buClr>
                <a:srgbClr val="333399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 Narrow"/>
              </a:rPr>
              <a:t>Worst of all  -  ………!!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Slide Number Placeholder 4"/>
          <p:cNvSpPr/>
          <p:nvPr/>
        </p:nvSpPr>
        <p:spPr>
          <a:xfrm>
            <a:off x="6629400" y="60958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262A-2432-4624-BA47-B377134053FC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3T16:20:42Z</dcterms:created>
  <dc:creator>TOSHIBA</dc:creator>
  <dc:description/>
  <dc:language>en-US</dc:language>
  <cp:lastModifiedBy>mahmood.lutaaya</cp:lastModifiedBy>
  <dcterms:modified xsi:type="dcterms:W3CDTF">2008-10-08T14:02:46Z</dcterms:modified>
  <cp:revision>114</cp:revision>
  <dc:subject/>
  <dc:title>Planning for success in a new or growing business</dc:title>
</cp:coreProperties>
</file>