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31"/>
          </p:nvPr>
        </p:nvSpPr>
        <p:spPr>
          <a:xfrm>
            <a:off x="3898800" y="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Img"/>
          </p:nvPr>
        </p:nvSpPr>
        <p:spPr>
          <a:xfrm>
            <a:off x="1116000" y="69840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body"/>
          </p:nvPr>
        </p:nvSpPr>
        <p:spPr>
          <a:xfrm>
            <a:off x="687240" y="4416120"/>
            <a:ext cx="5507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ftr" idx="32"/>
          </p:nvPr>
        </p:nvSpPr>
        <p:spPr>
          <a:xfrm>
            <a:off x="-360" y="883116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 type="sldNum" idx="33"/>
          </p:nvPr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7F0-6666-4941-A83D-C38F83A6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1600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7240" y="4416120"/>
            <a:ext cx="55072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EDD7-65AE-41A3-ABE4-8A450191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05B-C573-4931-BC9F-4963E958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8BF-B153-4D63-B591-D15EDE6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3346-1964-4AD5-83B8-FBE4597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DAAD7-8D2F-4681-B493-75D0C78B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8DD70-5AD3-4538-A1AA-4A5DC2BD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36BFD-2C1F-484C-8260-8131191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771F8-1AE9-497C-A917-FDCF26B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C5DA3-CD67-4CFB-9545-5A0ED9F8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C4BBB-AC9C-4E85-9B93-8262BA87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F6142-1FB9-4738-8294-9D1B701F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E3722-AE7C-4073-8B5C-CF0BA7D1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69A75-3534-43C4-9E09-650ADFB1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83A-3AC4-4A43-8CC2-0438A25A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6F877-3552-48C5-8940-0AE98E4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7EFC9-8429-44ED-997C-C889A0DC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F2979-0C1D-424C-B26E-40A36DEE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7D13F-5C6C-44B4-BE5B-D8648977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F9F9E-F2E2-487D-9CDC-928761AE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1F573-35C6-4BDD-ABEA-7C5A9AE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D15D4-F3AE-40E6-A26E-8FAC2F1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F8464-2766-4E7E-A5F5-C17CBFA8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F622F-659A-4204-AEA2-575D4F81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225AD-B320-4235-9E39-6045C8CF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3F9-B0D2-4ECF-B2CE-4E544147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9EAD8-5981-4062-9669-D67799F8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ADCC-7C22-4725-ABE7-6A087547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0715-7009-4A19-8FF0-3705BA39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6360-E889-429C-AA8A-CF1C5DBC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B12-248F-4A03-969D-EB84FC0F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EEE-CC63-4DD8-884B-F86831E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4E25-1DCA-41BD-B360-57AEBAB1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2C6F-A255-4949-93D6-7AF2876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445-5E32-4A8A-BD1F-351E52FE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369-0594-4286-A09F-61472E56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085-CE75-49C2-8207-0960E45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7351-144C-467A-8FEA-CC23740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974D-AC01-47DD-9503-C7BAA691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5409-681D-4EC0-A618-CC08F67C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F6BE-4988-415D-969B-1DF05685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8931-ECE6-4C47-8CD3-8F9A5EB1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9894-1448-49F5-91F3-FD22124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2AD8-C3FF-425E-A657-27FFB282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4151-DACD-4AC2-A84A-6AAD2A33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477-5EFB-45BC-A955-F74C0A36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FBA4-A5FE-4747-A4D9-593E7D1A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AE78-C3C3-4561-A056-974B1CE9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FEC4-D229-4A53-A2FB-CA8A9D2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FB5D-077F-4BCC-960C-E17F405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6F95-17E1-4AE2-B3CB-76821A7C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39C5-708D-4C5B-8F62-CC15B557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0527-6B82-42B4-BE6F-F8147D8B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3444-C1C1-4341-8BA9-57EC1036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A997-7341-425E-A7A9-6784FC28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E0D8-B62D-4B92-AFAF-C121DFB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2D6-A695-4FF8-8E9A-7E333604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939F-437B-4813-921A-F5164B8C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DC04-F846-46C9-B384-7BE1C1BA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CBDC-A374-49D3-B85A-759592DC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73B3-7F2F-46EE-A73C-B1F1F79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CE93-EFAA-47E3-92EF-58A0E16B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8029-CC80-4301-ADEE-963930D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6479-6C50-4498-8D46-EEFBA1A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8B47-213B-45F5-9E5C-463D7945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484F-7FC7-4778-B649-D10B3F38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59F03-9278-4865-892F-D390D264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D1B-A939-44C7-8D7B-63F507B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72AF5-0083-41EE-A2AA-158D4DF1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DD2E-98A4-4736-BF4A-0D41F7B7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FE493-1528-449C-83ED-76AB3251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25BD-3CAF-469A-9A83-4C5202E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C449-6EC8-49E9-9AD2-7930C96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F18B-CCAE-456E-8B21-94D1A33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18ABB-B37A-41C7-8A0F-F92FBE3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3639-061A-4B88-998B-EF60A0B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9B19-631F-44FB-8E1E-4E553CD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49A3-11B2-4C7E-ADB5-53CB06FC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436-73BB-47D1-96B5-73071C09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2DB9-01D0-4DC6-A480-309A0D38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3527-2040-4A9F-A90F-EB552D02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A214-9DF9-4421-B63A-237B278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4E3F-F479-4883-B44C-C50D548F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6E6E-87A2-45BC-97BC-470B960C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1AA55-7065-4220-BE62-6FF5C42E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FA55-E451-4001-9438-CA9F3A04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737D4-F374-4A6C-973D-8F58DFFF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3C87-D78C-4EE8-BCE3-D798CE9C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E422-D15F-479F-B5DE-CA71FBE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6E6-972A-4512-83A0-FA280E31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4A7F-1872-43DE-98ED-C1BC0911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A397-F3B2-47BB-88C4-86A7079D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4FF11-3A87-44DE-9CC5-43CBBCD7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3907-7567-43AA-B4AF-9A8ADE5F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2685-0038-48F0-8AF4-7CCE5685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0D31-0EC8-416B-812F-23F86545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FD35F-9C05-47D1-9C82-97FF1D9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E348-35A0-47E2-8DFE-81B18AD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41C1-0982-480D-85CE-0CBE8CE1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7BB7F-D2EF-4797-B134-8306BA1F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C86-FB2A-45FF-BB27-C0988B5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6AB0D-521A-4DB1-A29D-FF707B0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0E818-4050-4EAA-8A6B-C00B8794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CC325-6FA4-4F30-89B5-E71E0156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55486-D339-44C2-BC61-ECFAA9C4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144A-BC97-40F5-B1A1-D83A84D8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8DAFC-E623-4D91-886D-45B094E9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A6474-148D-43BD-8133-06C64681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F30BC-402F-4272-A0F4-D9BF9799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8E56E-F4FD-493B-A25C-C415331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FD11-2344-4E83-B30E-6F091CCC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102-F004-435A-93B6-2222B17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66D3-95ED-44B4-9675-822B8804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4BB82-EC41-43F9-94FB-440F499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A2DE8-FEAC-40F0-B3D6-B8DA0C8F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345BB-F319-437D-AC94-EB614DA0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174D3-C8DA-4FD9-8C4C-9D7C50D4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A1542-7C4A-453D-9C2B-9822C440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E5D15-4A95-4972-A300-BBD56308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E319B-4B7A-4C55-9190-5C34943E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AC44F-5A8C-43DC-AE49-A3A7DF72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78A61-8CC7-43AD-82F4-62C515F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3F8A-8447-4219-8981-D36C50AC92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426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4C3-64DB-405E-9A24-47946EA08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48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4" descr="NWSC Logo"/>
          <p:cNvPicPr/>
          <p:nvPr/>
        </p:nvPicPr>
        <p:blipFill>
          <a:blip r:embed="rId4"/>
          <a:stretch/>
        </p:blipFill>
        <p:spPr>
          <a:xfrm>
            <a:off x="3505320" y="0"/>
            <a:ext cx="1127160" cy="8017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609480" y="3808440"/>
            <a:ext cx="79250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30A6-99CD-4E11-868B-A93DEE485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96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4" descr="NWSC Logo"/>
          <p:cNvPicPr/>
          <p:nvPr/>
        </p:nvPicPr>
        <p:blipFill>
          <a:blip r:embed="rId4"/>
          <a:stretch/>
        </p:blipFill>
        <p:spPr>
          <a:xfrm>
            <a:off x="7645320" y="5791320"/>
            <a:ext cx="149868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15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7B28-4830-4854-9FD6-7E57072A69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144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405A-62F8-45CF-B9DA-13E7DDD6E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191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8265-D240-4D66-95CA-E677D1346C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238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2EE9-04DF-4DC4-AB1C-AE1451A095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285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5FF-6290-4C52-8AAC-AAC885482D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332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2D6F-ABA9-46C3-99BB-F3FFFA087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379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A893-ED84-48E6-AAE2-37B092541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tish Council Managemen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dnesdays 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ctober 2008  Serena Hotel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By: Dr. William T Muhair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LENT MANAGEMENT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What does it take to get to the Top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does it take to get to the T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oint of view of NWSC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ner desire &amp; conviction to get to the top – visions &amp; dreams are stronger &amp; sh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tar performance is cardinal &amp; at the heart of everything - Know your work inside-out &amp; be not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erseverance – keep focused on your goal/amb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he skills/intuition to “sniff” for and tak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otal commitment  - work hard &amp; work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ve wide &amp; good network of contacts 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(not  technical know who but strategic know who)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cant get to the top on your 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ersonality of credibility &amp; accountability – 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your actions today will be judged on you tomor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Qualification and know who can get you so far but not to the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eing proactive &amp; positive minded - acting &amp; thinking positively and always being one step a h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7F60-E8D0-481A-9A43-1713915234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makes people leaders?</a:t>
            </a: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GB" sz="2000" spc="-1" strike="noStrike">
                <a:solidFill>
                  <a:srgbClr val="c00000"/>
                </a:solidFill>
                <a:latin typeface="Arial Narrow"/>
              </a:rPr>
              <a:t>What do we look for when choosing those to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emotional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elf awareness –recognise &amp; understand your moods, emotions &amp; their effect o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elf regulation –control or redirect disruptive impulses &amp; mo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otivations – passion to work for a reason that goes beyond money or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mpathy – understand the people &amp; treating them according to their emotional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 skill – managing relationships &amp;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Q &amp;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skills are entry level requirements - you can have the best training in the world, an incisive, analytical mind &amp;  an endless supply of smart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ut  wont make it to the top if you don’t have the emotional intelligence –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ETHICAL S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5DD-138F-49FD-80BD-3C6F8FC31C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makes people leaders?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GB" sz="2000" spc="-1" strike="noStrike">
                <a:solidFill>
                  <a:srgbClr val="c00000"/>
                </a:solidFill>
                <a:latin typeface="Arial Narrow"/>
              </a:rPr>
              <a:t>What do we look for when choosing those to lead  - cont´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dditional required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lectively show weaknesses- expose some vulnerability &amp; reveal their approachability &amp; huma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ly heavily on intuition to gauge appropriate timing &amp; course of action 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– collect &amp; interpret information helps to know when &amp; how to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anage with empathy – giving employees what they need rather than what they wan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veal their differences - 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pitalise on what is unique about themselves &amp; those they lead and know when to apply them, e.g. when to be humorous &amp; angr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705720" y="6095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36F-B8E1-4FAB-84BF-9FC94EC38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So what does it take to b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Arial Narrow"/>
              </a:rPr>
              <a:t>Just Be Bril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 Narrow"/>
              </a:rPr>
              <a:t>Four characteristics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sitive action – be positive always (don’t say I will try- say I will do it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reak out of limiting beliefs - step outside the comfort zone (speed, teamwork &amp; f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ink differently – you cant solve your problems with the same thinking that caused them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(Einste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ility to manage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6172200" y="762120"/>
            <a:ext cx="1857240" cy="1876320"/>
          </a:xfrm>
          <a:prstGeom prst="rect">
            <a:avLst/>
          </a:prstGeom>
          <a:ln w="0">
            <a:noFill/>
          </a:ln>
        </p:spPr>
      </p:pic>
      <p:sp>
        <p:nvSpPr>
          <p:cNvPr id="523" name="Slide Number Placeholder 5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EB2C-7016-41BC-AE1B-6C44AED081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Our lives improve only when we take chances  –  and the first &amp; most difficult risk we can take is to be honest with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Walter And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acts do not cease to exist because they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Aldous Hux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70c0"/>
                </a:solidFill>
                <a:latin typeface="Arial Narrow"/>
              </a:rPr>
              <a:t>Thank You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6705720" y="6095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3F4-FA46-4763-9316-AE6873FDBA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is talent manage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Clr>
                <a:srgbClr val="3333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dynamic, ongoing process of systematicall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identify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assess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developing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alent for future critical roles to ensure continuity and effective organisational performance.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(John D Held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3333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Bible defines talent management in Mathew 25 : 14-30 -  the parable of the 3 serv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C2A6-F35B-47D9-80C4-E3A2AACA33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you want to be at the T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C:\Documents and Settings\mahmood.lutaaya\Local Settings\Temporary Internet Files\Content.IE5\Z7XXPXLU\j0425040[1].wmf"/>
          <p:cNvPicPr/>
          <p:nvPr/>
        </p:nvPicPr>
        <p:blipFill>
          <a:blip r:embed="rId1"/>
          <a:stretch/>
        </p:blipFill>
        <p:spPr>
          <a:xfrm>
            <a:off x="3352680" y="2630520"/>
            <a:ext cx="2971800" cy="3846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C:\Documents and Settings\mahmood.lutaaya\My Documents\NWSC\RME\Presentation\talent management\bld158sh.jpg"/>
          <p:cNvPicPr/>
          <p:nvPr/>
        </p:nvPicPr>
        <p:blipFill>
          <a:blip r:embed="rId3"/>
          <a:stretch/>
        </p:blipFill>
        <p:spPr>
          <a:xfrm>
            <a:off x="228600" y="1555920"/>
            <a:ext cx="3068640" cy="2406600"/>
          </a:xfrm>
          <a:prstGeom prst="rect">
            <a:avLst/>
          </a:prstGeom>
          <a:ln w="0">
            <a:noFill/>
          </a:ln>
        </p:spPr>
      </p:pic>
      <p:sp>
        <p:nvSpPr>
          <p:cNvPr id="488" name="Slide Number Placeholder 7"/>
          <p:cNvSpPr/>
          <p:nvPr/>
        </p:nvSpPr>
        <p:spPr>
          <a:xfrm>
            <a:off x="6629400" y="6076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B0A-18BC-4F64-BA9F-20B0494A82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you want to be at the T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ig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Get ideas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e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o st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e the b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mpress colleagues /opposit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atisfy parents´ 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FF14-2D98-4391-B067-09F5DF6F4B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anyone want to be led by y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1"/>
          <a:stretch/>
        </p:blipFill>
        <p:spPr>
          <a:xfrm>
            <a:off x="3833640" y="2971800"/>
            <a:ext cx="4548240" cy="2819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59200" cy="2667240"/>
          </a:xfrm>
          <a:prstGeom prst="rect">
            <a:avLst/>
          </a:prstGeom>
          <a:ln w="0">
            <a:noFill/>
          </a:ln>
        </p:spPr>
      </p:pic>
      <p:sp>
        <p:nvSpPr>
          <p:cNvPr id="496" name="Slide Number Placeholder 9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5971-39AB-49F8-9C89-8915D1107E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anyone want to be led by y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s it because you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ndsome/beauti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Out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olitically conn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ly conn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ve the relevant exper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ve the right qualif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o you capture the hearts, the minds &amp; soul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BF2D-ACB1-40B6-886F-BFCBCC5BE6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What motivates people to be at the Top/to be l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born – self satisfaction (long history of leadership positions – class monitor, prefect, Head prefect, team leader)- people mag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sire to ignite/inspire people, -have vision, strategies &amp; powerful ideas you wish to commun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Good working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onetary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putation of the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Good career development  pro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590A-FBFE-4054-B577-69160AF26D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 do you think it takes to get to the Top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421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5715000" y="1955880"/>
            <a:ext cx="3048120" cy="3835440"/>
          </a:xfrm>
          <a:prstGeom prst="rect">
            <a:avLst/>
          </a:prstGeom>
          <a:ln w="0">
            <a:noFill/>
          </a:ln>
        </p:spPr>
      </p:pic>
      <p:sp>
        <p:nvSpPr>
          <p:cNvPr id="507" name="Slide Number Placeholder 6"/>
          <p:cNvSpPr/>
          <p:nvPr/>
        </p:nvSpPr>
        <p:spPr>
          <a:xfrm>
            <a:off x="6629400" y="6076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289-7C93-4DAC-88C2-D23403E89C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 do you think it takes to get to the Top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Qualification – MBA/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xperience – long years of service ( 5 , 10 20 y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ppearance/packaging – build-up, bea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 connections – Relations/tribal/reli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olitical connections –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echnical connections – sharing the same profession as the appointing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Worst of all  -  ………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BD43-A209-4710-98EF-CB02EF4780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16:20:42Z</dcterms:created>
  <dc:creator>TOSHIBA</dc:creator>
  <dc:description/>
  <dc:language>en-US</dc:language>
  <cp:lastModifiedBy>mahmood.lutaaya</cp:lastModifiedBy>
  <dcterms:modified xsi:type="dcterms:W3CDTF">2008-10-08T14:02:46Z</dcterms:modified>
  <cp:revision>114</cp:revision>
  <dc:subject/>
  <dc:title>Planning for success in a new or growing business</dc:title>
</cp:coreProperties>
</file>